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216C-D812-4CA6-B787-BB18D87B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C57-98EF-4B15-92CC-3156C485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88A5-7F20-456E-A761-E9862FC03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41F3-4DD1-45EF-B36B-9C1E24CE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8789-6672-4758-BDB1-B6CA6FDC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8EA6-9746-44AC-9090-8F378FFC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3961-C710-446D-8E18-5F532B0F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57D0-05B1-4A31-B7CD-D884DF23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6D7E-4E32-4823-A90E-913F9929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78CA-5F40-4E4A-807D-D6449E2B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325C-6687-4524-88D0-E8046512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FC5F-C5D6-435D-A926-B5F5DB4E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D768-E52E-403D-95BB-DC096D85E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9:27:45Z</dcterms:created>
  <dc:creator>ERIK</dc:creator>
  <dc:description/>
  <dc:language>en-US</dc:language>
  <cp:lastModifiedBy>ERIK</cp:lastModifiedBy>
  <dcterms:modified xsi:type="dcterms:W3CDTF">2011-05-17T19:32:32Z</dcterms:modified>
  <cp:revision>1</cp:revision>
  <dc:subject/>
  <dc:title>Geen diatitel</dc:title>
</cp:coreProperties>
</file>