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5459-55C4-497F-A2D2-56A89886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607C-930F-4807-A0BA-DE1C650B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BA70-91A2-4A17-B6FF-A73DA8AF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C27E-BEA2-4E20-A937-37E2AC8E2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D9CD-2330-4BF8-8EF6-E38908BB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154-5EB1-4DE4-8BDF-995E2261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73AC-0C91-4327-B728-688B8A72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4001-784C-42F1-A495-BE93A0FD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A651-7BA1-40E2-B776-49A113DA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586F-FE9B-426F-AE0C-58CA9B18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4274-6AC3-47FB-B63E-2D219A0C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7FF6-CA65-4F5F-953C-BA3C727B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B454-8BD2-4C1F-81A6-D7AE06293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9:27:45Z</dcterms:created>
  <dc:creator>ERIK</dc:creator>
  <dc:description/>
  <dc:language>en-US</dc:language>
  <cp:lastModifiedBy>ERIK</cp:lastModifiedBy>
  <dcterms:modified xsi:type="dcterms:W3CDTF">2011-05-17T19:32:32Z</dcterms:modified>
  <cp:revision>1</cp:revision>
  <dc:subject/>
  <dc:title>Geen diatitel</dc:title>
</cp:coreProperties>
</file>