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DFF-4335-4C41-AF41-CC9F8AF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F6C-44C3-4892-B8AE-7FD4D146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4C0-26FA-4D9C-A0C2-945AF04B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C71-D12B-4E53-932D-B4B5241F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A43-6BBE-4423-BDF3-A83FB9A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7A5-FCAC-4A29-A6F4-29233ECC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5D9-B83B-4D67-B791-C3358A9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840-8552-48B2-8BE3-B0E2D844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FCA-8E12-4AD9-9768-0E78713B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AE0-CD5A-4226-BAC5-24F4E6B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F2C-DCFC-4C3C-BEFA-4CA5E91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3C3-32F2-41B4-B128-19EA7583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4431-625B-4FE6-AA9C-685BD7840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6881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24:03Z</dcterms:created>
  <dc:creator>ERIK</dc:creator>
  <dc:description/>
  <dc:language>en-US</dc:language>
  <cp:lastModifiedBy>ERIK</cp:lastModifiedBy>
  <dcterms:modified xsi:type="dcterms:W3CDTF">2011-05-17T19:27:29Z</dcterms:modified>
  <cp:revision>1</cp:revision>
  <dc:subject/>
  <dc:title>Geen diatitel</dc:title>
</cp:coreProperties>
</file>