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160-CFD9-4E90-BFFF-FDCBE46F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996-52C4-47BB-BDB7-10AF6551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B9D-BBCC-43B3-A584-CB2421C7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D6A-C5F1-4172-A915-A0E8BCD0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990-8536-4FEA-ADCE-500ADD04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371-1D6D-40FE-A3EF-C424F575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1B6-1E54-4307-AE12-C26C5752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582-C2D7-417F-BB5F-C3AD28F9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101-2D4E-4D7D-ABF7-796453A8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1AD-A45C-4048-96AC-28B8FA8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FD5-6986-47D3-A2B0-145B8F3B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539-4DDD-4AD8-89C8-2248A2D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485D-112C-4E6A-BA5F-0BB5FBD01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6881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24:03Z</dcterms:created>
  <dc:creator>ERIK</dc:creator>
  <dc:description/>
  <dc:language>en-US</dc:language>
  <cp:lastModifiedBy>ERIK</cp:lastModifiedBy>
  <dcterms:modified xsi:type="dcterms:W3CDTF">2011-05-17T19:27:29Z</dcterms:modified>
  <cp:revision>1</cp:revision>
  <dc:subject/>
  <dc:title>Geen diatitel</dc:title>
</cp:coreProperties>
</file>