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1E9-E3B2-46A3-A5FD-41330DE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569-A554-4A2E-8717-33B9B526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400-4100-4421-9BFD-600248A5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C80-7AE5-4826-834E-3D7A9D9A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7A0-8D21-49E7-8A3F-EA4BC2E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5E3-757C-4BF7-A5EF-783A692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8E8-6954-42FE-8F7D-9C977AD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9C2-9F1C-48E7-B71C-BE23E45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ED4-31E9-4FB0-82F9-49A9C4AC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F8A-D4D0-4660-BAD0-A5FCE7B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522-32EA-4FCA-8524-0FA2D35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70A-BC95-44D4-8FB4-B5CB6AB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D80A-6461-4C34-AC5B-FB9E1BF8F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19:28Z</dcterms:created>
  <dc:creator>ERIK</dc:creator>
  <dc:description/>
  <dc:language>en-US</dc:language>
  <cp:lastModifiedBy>ERIK</cp:lastModifiedBy>
  <dcterms:modified xsi:type="dcterms:W3CDTF">2011-05-17T19:23:55Z</dcterms:modified>
  <cp:revision>1</cp:revision>
  <dc:subject/>
  <dc:title>Geen diatitel</dc:title>
</cp:coreProperties>
</file>