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A1F-DEC2-4DB4-9079-DEF6F2E8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FE6-8DF0-4AC4-8A76-1762131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FE2-5D82-45C4-A02D-D024260F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1BC-F320-4BB5-BF2D-3AA1F106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1CA-895D-4340-A752-C9ECF95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275-A60B-46AB-926F-E435BD1E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ED5-B680-4899-B503-D36C8B7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089-9C6B-4078-9046-29C36817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B28-056C-410F-93AD-65F6211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7D8-7E7B-489E-A0E5-D80D66C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91A-FBF4-423E-A811-5D5EDAA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3CF-2024-4E2D-85E4-D7B6E67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A4B-5CD0-453D-9F32-BDC33AFB1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19:28Z</dcterms:created>
  <dc:creator>ERIK</dc:creator>
  <dc:description/>
  <dc:language>en-US</dc:language>
  <cp:lastModifiedBy>ERIK</cp:lastModifiedBy>
  <dcterms:modified xsi:type="dcterms:W3CDTF">2011-05-17T19:23:55Z</dcterms:modified>
  <cp:revision>1</cp:revision>
  <dc:subject/>
  <dc:title>Geen diatitel</dc:title>
</cp:coreProperties>
</file>