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479-A80D-47DF-8EEE-C18F722F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888-BE86-4E7D-9D7B-1AD315AE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DB8-F885-41E0-95AA-1945F57A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847-7C77-4424-ADB7-DC3AE924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9E8-4E81-4315-B529-D6FBA379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736-40C1-4329-8DD2-070AAE65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D7A-7670-4953-B30A-10F02D2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C4F-E111-4266-88C8-6DB2E60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A45-1158-4B1E-B598-5C6AD4E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76C-AF58-46EB-B162-637AF51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F8B-EDE9-4B31-A824-304F71F2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DD3-9B7F-4F1C-827C-DD9AE78F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294F-D246-43C9-8FAB-9492A093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14:21Z</dcterms:created>
  <dc:creator>ERIK</dc:creator>
  <dc:description/>
  <dc:language>en-US</dc:language>
  <cp:lastModifiedBy>ERIK</cp:lastModifiedBy>
  <dcterms:modified xsi:type="dcterms:W3CDTF">2011-05-17T19:19:20Z</dcterms:modified>
  <cp:revision>1</cp:revision>
  <dc:subject/>
  <dc:title>Geen diatitel</dc:title>
</cp:coreProperties>
</file>