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145-EEAC-4DE9-AD3B-AF94F216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5AC-DAFF-4839-8AA5-FCD28A7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DCE-0312-42BD-A948-C7D4D6BA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94F-8430-4AEA-BCD8-5342BE5B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07E-FE15-4AB9-9F3A-5011759F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9D1-7E2C-4B37-A44A-FA1A6CD3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5B9-4DF1-41E3-8887-88B9ADDF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46D-09A7-42A0-B7D4-2A69C84C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E52-F819-4846-B62E-E8CD7DC5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99F-E11B-4720-905F-F65ED44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10B-FE0B-4F7F-AAC9-2BC9EB59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81F-2633-4DE4-BD71-0507064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E5E7-972E-4DC7-8FC3-08F73F7B9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14:21Z</dcterms:created>
  <dc:creator>ERIK</dc:creator>
  <dc:description/>
  <dc:language>en-US</dc:language>
  <cp:lastModifiedBy>ERIK</cp:lastModifiedBy>
  <dcterms:modified xsi:type="dcterms:W3CDTF">2011-05-17T19:19:20Z</dcterms:modified>
  <cp:revision>1</cp:revision>
  <dc:subject/>
  <dc:title>Geen diatitel</dc:title>
</cp:coreProperties>
</file>