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2A7-BB02-4B7D-9041-21A6D855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646-28CE-4264-866D-FA660D60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003-6EA3-4834-9F8D-6767BA57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799-E242-48AE-BB43-829059AA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80C-6BE6-4F9E-83BF-30FC0E86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470-5431-40AE-BD8A-97663318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069-18E2-47B9-B352-CFBB4759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FAC-D124-4448-946B-F609624B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B88-309B-434B-846B-95055F94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DDB-E71B-4488-AC79-34AC7D9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AFF-A659-40E3-854B-A2D4089B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A60-A07B-431E-83E8-320567CF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CBE9-6931-447B-90BE-9E32069AB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277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9:12:55Z</dcterms:created>
  <dc:creator>ERIK</dc:creator>
  <dc:description/>
  <dc:language>en-US</dc:language>
  <cp:lastModifiedBy>ERIK</cp:lastModifiedBy>
  <dcterms:modified xsi:type="dcterms:W3CDTF">2011-05-17T19:14:04Z</dcterms:modified>
  <cp:revision>1</cp:revision>
  <dc:subject/>
  <dc:title>Geen diatitel</dc:title>
</cp:coreProperties>
</file>