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CF0-9BC3-4DE4-B456-9CF6CBC8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E42-CAC8-4D36-A4A1-3F1225B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B55-051E-4D98-A4F0-1F1FD23C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13D-E418-46AC-B558-084B146B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A76-A249-447F-8607-6C0ACB30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237-FC8A-4BAC-BC89-CB0DC551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C2F-BE08-48B3-A7BA-7C3282B6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AA6-DC2E-49D0-8CD2-4D7E6181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633-5E06-458D-82B3-4C6DA792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351-4393-46D8-895B-BF9CA81D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31B-543E-4498-93D3-FACEF6A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296-B574-4011-91F4-B95853F3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B0D0-EFFE-4A87-8A08-CE1660D99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27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12:55Z</dcterms:created>
  <dc:creator>ERIK</dc:creator>
  <dc:description/>
  <dc:language>en-US</dc:language>
  <cp:lastModifiedBy>ERIK</cp:lastModifiedBy>
  <dcterms:modified xsi:type="dcterms:W3CDTF">2011-05-17T19:14:04Z</dcterms:modified>
  <cp:revision>1</cp:revision>
  <dc:subject/>
  <dc:title>Geen diatitel</dc:title>
</cp:coreProperties>
</file>