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0CB-0DC7-44D6-8837-38DAA03D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E1D-B9CA-4DF0-B3B4-158B5A2C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75D-D757-4E8B-B64A-A199C13F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27E-35EA-47AB-AA76-D85F304D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C45-D952-4173-BAED-482484B1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1F2-BBA2-42C0-AD30-D7631A6F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327-C153-499B-A291-9D95D200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733-3BAB-4792-A4C4-CC229BB4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088-59AA-4FE4-ABAC-893521A3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BB8-865C-4C48-BB95-F0AE06BF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BC6-FDAC-4098-92AB-0AF698F6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B39-6009-4EA4-8399-AD66E581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F2A3-3719-448D-89DA-822CE7962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9:08:02Z</dcterms:created>
  <dc:creator>ERIK</dc:creator>
  <dc:description/>
  <dc:language>en-US</dc:language>
  <cp:lastModifiedBy>ERIK</cp:lastModifiedBy>
  <dcterms:modified xsi:type="dcterms:W3CDTF">2011-05-17T09:12:48Z</dcterms:modified>
  <cp:revision>1</cp:revision>
  <dc:subject/>
  <dc:title>Geen diatitel</dc:title>
</cp:coreProperties>
</file>