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0A3-35BC-46EC-9947-DCD1407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D26-9082-4995-BB13-17E76C6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BDF-C471-4F3C-8E58-9652BC6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3C6-A202-4F71-B9A7-FD3EA4D5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E5E-B379-49AC-AB2A-C15DFBE0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DCA-7164-432E-B102-5DD1A27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B62-51DC-457E-8E10-DF64762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6FF-A296-49D0-9345-EC11326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97B-CC8A-4E2F-92E1-43428B34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B0D-0656-482E-BE4F-BFECF95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845-1BB5-4075-9C6E-1B309AAC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5E0-AEDA-40E1-BD68-624FB08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151-356B-432E-97F3-C05AF609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08:02Z</dcterms:created>
  <dc:creator>ERIK</dc:creator>
  <dc:description/>
  <dc:language>en-US</dc:language>
  <cp:lastModifiedBy>ERIK</cp:lastModifiedBy>
  <dcterms:modified xsi:type="dcterms:W3CDTF">2011-05-17T09:12:48Z</dcterms:modified>
  <cp:revision>1</cp:revision>
  <dc:subject/>
  <dc:title>Geen diatitel</dc:title>
</cp:coreProperties>
</file>