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B9E-E267-4D8B-8CA1-A31768B7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336-0713-4AD8-98D3-D38F7BBB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15E-AC8D-4FE7-97B1-EDBD079D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E26-62BC-4046-9E77-DFF473C1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0FB-0255-412D-93AE-86E071E2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BA8-354A-4ADD-A97A-50BFB8D3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65F-D905-4B44-9D27-D91F3273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AA6-7B09-4476-A681-E6253CA6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AC6-84FB-4BBB-A0A8-56D5370C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CEB-AF12-4CB5-9BC9-8A5F3E7B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E6A-1121-4FC5-875F-00F7C5D1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1D5-7460-4A5A-995E-2997D7B1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2289-BA52-40D7-A2B1-E549B216D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9:03:18Z</dcterms:created>
  <dc:creator>ERIK</dc:creator>
  <dc:description/>
  <dc:language>en-US</dc:language>
  <cp:lastModifiedBy>ERIK</cp:lastModifiedBy>
  <dcterms:modified xsi:type="dcterms:W3CDTF">2011-05-17T09:07:51Z</dcterms:modified>
  <cp:revision>1</cp:revision>
  <dc:subject/>
  <dc:title>Geen diatitel</dc:title>
</cp:coreProperties>
</file>