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697-DCE9-481F-878E-4E49E210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B67-9571-4E16-B4F4-8013919C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210-B191-40E8-83C7-9ACB111B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528-0606-4115-80FD-4ED2B5E7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B5A-D061-4200-93D1-557790FC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884-0DFD-4A9C-BC8A-31CB369B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B5D-5098-4DBF-9B66-98110360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DD8-719A-4D25-A135-20B7C8C2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ABB-C2B9-4B30-A54B-D2DE4BA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3AC-F82C-4CC9-9E47-D463AC5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BDE-0ED2-46EE-9839-4F932F5D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319-2CE9-4FAD-A7C4-8B20F95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3CCB-3230-4EE2-B001-B45AC6A9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03:18Z</dcterms:created>
  <dc:creator>ERIK</dc:creator>
  <dc:description/>
  <dc:language>en-US</dc:language>
  <cp:lastModifiedBy>ERIK</cp:lastModifiedBy>
  <dcterms:modified xsi:type="dcterms:W3CDTF">2011-05-17T09:07:51Z</dcterms:modified>
  <cp:revision>1</cp:revision>
  <dc:subject/>
  <dc:title>Geen diatitel</dc:title>
</cp:coreProperties>
</file>