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E6F-BA7B-4E45-8D43-AB2D6AF4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6AC-C50B-4DCF-BF31-0660C197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ACB-60E1-423A-ACD2-D6F99A64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AB2-8E65-480B-BE79-32E64A60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85A-AAD4-468D-A757-3068DD60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8C9-4D2C-4EC4-809F-904725DB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328-5F14-4E73-A1F6-8CBF86E8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6F8-EEAC-4A24-8DCF-09C616CB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F6E-1CBB-47BE-8746-F236D055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875-5E6D-4430-918E-D9296335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DE8-2C07-4CE2-A5F2-BD94175D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5F48-D6F8-426C-8090-861FAF8F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A0C5-D48C-43BC-89E8-8350C658C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8:56:30Z</dcterms:created>
  <dc:creator>ERIK</dc:creator>
  <dc:description/>
  <dc:language>en-US</dc:language>
  <cp:lastModifiedBy>ERIK</cp:lastModifiedBy>
  <dcterms:modified xsi:type="dcterms:W3CDTF">2011-05-17T09:03:12Z</dcterms:modified>
  <cp:revision>1</cp:revision>
  <dc:subject/>
  <dc:title>Geen diatitel</dc:title>
</cp:coreProperties>
</file>