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0C4-3927-4464-AF51-1773A265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0F9-14AB-4CEB-8298-812C5D8D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A94-93E4-4720-9BEB-8E8D1122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4CD-1B74-4997-A562-08843128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3AB-48B1-4B45-8E5F-C146EDEA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BF8-ABDB-472F-ABE2-C8B0461A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B5B-6853-4B20-AD99-43366051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078-15F1-4215-B797-B63BF76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CDA-5B49-4D00-8A74-71F82D88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F64-50CE-4AB1-A2B5-66D04479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170-14D4-4CCD-B318-C1442687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A33-BF66-4B5D-A690-657119A4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68D8-8EAA-4E6B-B220-0AB3418A9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8:56:30Z</dcterms:created>
  <dc:creator>ERIK</dc:creator>
  <dc:description/>
  <dc:language>en-US</dc:language>
  <cp:lastModifiedBy>ERIK</cp:lastModifiedBy>
  <dcterms:modified xsi:type="dcterms:W3CDTF">2011-05-17T09:03:12Z</dcterms:modified>
  <cp:revision>1</cp:revision>
  <dc:subject/>
  <dc:title>Geen diatitel</dc:title>
</cp:coreProperties>
</file>