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AE90-9286-47A6-BA91-CB97D78CD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3700-42D3-42B5-9674-55974575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6FA6-3499-4AF8-A087-B893458A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9423-B1D4-457A-9463-BB7A241BD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3686-C229-4323-8853-38E09CF8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3091-2B47-48D7-A053-15D039FC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A285-5EBD-4F16-9DB2-27136F47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61AF-E591-43B7-B2F1-63E4FD9F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415E-32CD-497B-B0B6-4FF0A220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54AD-CAA7-4BF8-9E78-5F4927BF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FABA-5853-4106-A0A7-6787DF35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C8A3-C5BF-41E5-86D3-E745334D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61AE-0383-4486-8EFA-5EAE5639B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08:53:25Z</dcterms:created>
  <dc:creator>ERIK</dc:creator>
  <dc:description/>
  <dc:language>en-US</dc:language>
  <cp:lastModifiedBy>ERIK</cp:lastModifiedBy>
  <dcterms:modified xsi:type="dcterms:W3CDTF">2011-05-17T08:56:00Z</dcterms:modified>
  <cp:revision>1</cp:revision>
  <dc:subject/>
  <dc:title>Geen diatitel</dc:title>
</cp:coreProperties>
</file>