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031-1463-4204-B5C4-E1C3877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D35-0289-4DFA-A3FB-7AB4901E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210-9B2D-44C5-AF72-CB9EA70B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A47-AF2E-4EA2-8CFF-D980FB21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2D4-A11E-4631-BD66-859F83A0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7BF-189B-48D2-9F08-26A4CF3B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81D-A829-4479-B930-11121C01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A97-4FF7-402F-82C2-16E1D79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96B-899E-4428-9137-D86028D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15F-047D-4BA4-8B8F-D0499EE4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81A-8B1A-4E29-B8CD-9189D1D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35B-D084-4116-920B-0EDB9B9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371F-0FF5-4CA2-A120-5F191C3FE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53:25Z</dcterms:created>
  <dc:creator>ERIK</dc:creator>
  <dc:description/>
  <dc:language>en-US</dc:language>
  <cp:lastModifiedBy>ERIK</cp:lastModifiedBy>
  <dcterms:modified xsi:type="dcterms:W3CDTF">2011-05-17T08:56:00Z</dcterms:modified>
  <cp:revision>1</cp:revision>
  <dc:subject/>
  <dc:title>Geen diatitel</dc:title>
</cp:coreProperties>
</file>