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ADB-4063-4867-B7F4-01DBECF6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51B-903C-40E0-9CEE-ACE7C810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5FB-4FD5-4CCA-9B10-CB5521A9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EE7-E661-47DF-9FD9-AE3C5E89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9C2-712A-4C82-8387-F7AD5B88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8F7-A5D6-48BD-A195-704D8325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423-4249-48A5-A9D6-4B398510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AB7-FDE4-4EA1-8EEC-302AE64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3DC-0D2E-404E-8572-16AD1D3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3EE-8133-4181-ABAA-D17B3D6E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828-8142-466C-8D08-45C1011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4E7-417C-46FF-82DC-8CF5FFE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EFA1-FF1F-4262-92AA-A324AE668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1:09:12Z</dcterms:created>
  <dc:creator>ERIK</dc:creator>
  <dc:description/>
  <dc:language>en-US</dc:language>
  <cp:lastModifiedBy>ERIK</cp:lastModifiedBy>
  <dcterms:modified xsi:type="dcterms:W3CDTF">2011-05-05T21:10:32Z</dcterms:modified>
  <cp:revision>1</cp:revision>
  <dc:subject/>
  <dc:title>Geen diatitel</dc:title>
</cp:coreProperties>
</file>