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A72-33DA-4BDC-9D57-2C30DCA2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5D7-6B44-41ED-B491-0B3A1661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B3F-B663-4AE4-8858-9FE872CA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F54-A738-4376-A07F-08735307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D6F-9D30-47AF-9EE8-38FA4DFC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B3B4-6540-4BA1-B2D8-A2421429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EFE-3D96-42A7-B767-5967CD7D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8DC-7889-4926-8F0D-F6352982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C4EE-B922-4C94-A11C-B2B1F510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AA24-060F-44B9-A985-7FF584A0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FDF-CECD-4F69-A21D-9CBB1838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889-5389-4AC7-80EF-EBC93992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6764-5196-4257-A94D-F1B807FEF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21:09:12Z</dcterms:created>
  <dc:creator>ERIK</dc:creator>
  <dc:description/>
  <dc:language>en-US</dc:language>
  <cp:lastModifiedBy>ERIK</cp:lastModifiedBy>
  <dcterms:modified xsi:type="dcterms:W3CDTF">2011-05-05T21:10:32Z</dcterms:modified>
  <cp:revision>1</cp:revision>
  <dc:subject/>
  <dc:title>Geen diatitel</dc:title>
</cp:coreProperties>
</file>