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911-E1D9-4E86-901C-5A95C41D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8B2-7BA0-47D3-B428-1B815F7F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2F2-16AA-4A6D-AEAD-928223EF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739-CB7A-454E-93F7-597B946C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098-8363-4907-A6B1-3A5FE290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5B5-0D21-4E93-AEC4-81DB2CEF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833-3BFD-4D71-8FCE-30B8429C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092-4A1B-4454-8563-56FD8910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C02-8B0C-43F7-8E84-539BF987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034-CBD8-44FA-84D2-310A866C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0C0-8D20-4626-A6DA-6CD1F043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8E9-8DB1-4D3A-8F9A-9E043D9F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E598-A28C-4A72-AD77-D5A9749AE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21:00:14Z</dcterms:created>
  <dc:creator>ERIK</dc:creator>
  <dc:description/>
  <dc:language>en-US</dc:language>
  <cp:lastModifiedBy>ERIK</cp:lastModifiedBy>
  <dcterms:modified xsi:type="dcterms:W3CDTF">2011-05-05T21:05:45Z</dcterms:modified>
  <cp:revision>1</cp:revision>
  <dc:subject/>
  <dc:title>Geen diatitel</dc:title>
</cp:coreProperties>
</file>