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81E-BC0F-4EFD-AAF5-E4C73CB4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D48-8650-4000-ABE9-7FB9C1AA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613-B27D-4864-AFF3-8157C498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70E-1DA3-4514-BA37-B8DFF10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B45-E86E-40D9-B04D-B0ED213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B8F-AA89-4AD4-999B-EE38B26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A31-9F42-433B-894F-D00272D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DE1-B2AC-47EB-B281-01C429F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427-7208-49F1-A448-DE5339E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789-E1F1-4177-90F4-35C12DC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7F3-72BA-44CE-9BE3-AF07BB8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246-9F2B-4E57-A22A-455DDF3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D5D7-DC3E-4AEF-8A0D-EC2E9CAF8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1:00:14Z</dcterms:created>
  <dc:creator>ERIK</dc:creator>
  <dc:description/>
  <dc:language>en-US</dc:language>
  <cp:lastModifiedBy>ERIK</cp:lastModifiedBy>
  <dcterms:modified xsi:type="dcterms:W3CDTF">2011-05-05T21:05:45Z</dcterms:modified>
  <cp:revision>1</cp:revision>
  <dc:subject/>
  <dc:title>Geen diatitel</dc:title>
</cp:coreProperties>
</file>