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ED17-FA84-4D39-99B1-CE3C273A8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BEEC-69A9-41FC-90FC-CCEEDDFD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5C38-0CF3-4E18-B5D7-AFEE92C4F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9D55-8BEC-4975-87F0-25B3CD88E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424C-8428-43D6-B236-8910DEB52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6014-8DAB-41FD-9C6F-26215BC0A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8CB6-04B3-4FFC-8F1D-59135C089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398E-ED73-4DD3-B124-8D2CBD0F0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094B-87C9-44B6-A227-94AD5A8E8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6DB3-5CCA-422A-9544-2D1E025B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9AA5-0515-4ED4-B80A-C18E9EE4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877C-B46A-43BC-A429-F51DC98E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64A52-5AAA-48B6-BACF-1D0071CEBA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240" y="0"/>
            <a:ext cx="682776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5T20:58:31Z</dcterms:created>
  <dc:creator>ERIK</dc:creator>
  <dc:description/>
  <dc:language>en-US</dc:language>
  <cp:lastModifiedBy>ERIK</cp:lastModifiedBy>
  <dcterms:modified xsi:type="dcterms:W3CDTF">2011-05-05T21:00:03Z</dcterms:modified>
  <cp:revision>1</cp:revision>
  <dc:subject/>
  <dc:title>Geen diatitel</dc:title>
</cp:coreProperties>
</file>