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13E-3301-48F9-8046-8F408915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46D-5946-4D20-BFDC-DC735866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87A-0720-4CF5-A563-7F737E6C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714-27DF-446C-AEAD-288D6295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D03-0BD0-41B3-AE05-9A60B915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62E-5BC4-4086-9764-D9AEA193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404-7562-47A1-B0A6-BFD1A6E7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779-4378-417F-A840-297D4FEF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F5F-965B-4CE2-9478-9CB62FBA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230-CF12-494A-B62E-4F55D7BE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9A3-AABE-461A-8D56-AE49EC3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148-E937-4BBD-A953-26ED9FF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8F72-5634-4175-8EA6-C23EAAD83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240" y="0"/>
            <a:ext cx="6827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20:58:31Z</dcterms:created>
  <dc:creator>ERIK</dc:creator>
  <dc:description/>
  <dc:language>en-US</dc:language>
  <cp:lastModifiedBy>ERIK</cp:lastModifiedBy>
  <dcterms:modified xsi:type="dcterms:W3CDTF">2011-05-05T21:00:03Z</dcterms:modified>
  <cp:revision>1</cp:revision>
  <dc:subject/>
  <dc:title>Geen diatitel</dc:title>
</cp:coreProperties>
</file>