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D908-AE8F-467A-8528-5CAFF59C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35EA-51B7-482F-B662-F7401B21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3619-A4DF-4FC7-8FF9-1AD32ACC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307E-F0E4-4ECA-ACFA-E3D105B6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D2FE-F959-4555-BB3B-D3A6D040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A013-524C-4F45-A5B5-14D900BC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34A6-642E-4F15-9BC1-DE4247EB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55E4-98E2-4400-BF51-12B7AC0F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409F-0626-4A22-A82E-2B7BB600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F50C-2C08-4C4C-B7D3-0F02BCC8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5508-BE02-4520-B9C8-34A1599E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F5ED-7D24-41B7-8E04-31279E54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058C-1CD6-4305-BE87-4FC770325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20:51:01Z</dcterms:created>
  <dc:creator>ERIK</dc:creator>
  <dc:description/>
  <dc:language>en-US</dc:language>
  <cp:lastModifiedBy>ERIK</cp:lastModifiedBy>
  <dcterms:modified xsi:type="dcterms:W3CDTF">2011-05-05T20:53:30Z</dcterms:modified>
  <cp:revision>1</cp:revision>
  <dc:subject/>
  <dc:title>Geen diatitel</dc:title>
</cp:coreProperties>
</file>