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AF7F7-D93D-4E74-A7DE-2DC4DA1D6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BA411-7C81-462A-B729-0A2D46E18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FE68A-CAC1-46DF-BCDE-C7AA3B158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F9168-0C57-46D6-91A7-37B865239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7821A-181A-4CFB-BB95-69E253295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71C4A-6839-46CF-9B49-7668CE31B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EBD9D-0D73-40C4-A5B4-F95CEFE60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94712-EE40-4398-A051-E627240E6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6839B-9D48-4093-8534-9FAC4ECF7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18EB7-CACA-4CD4-B082-D9F7A7052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9C668-E5EB-4497-ABCC-BD9E7B160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E6019-3251-4F09-AB3B-389EE11EE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16C91-90DD-4663-8A4E-9AADD3DD0B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858000" cy="990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05T20:51:01Z</dcterms:created>
  <dc:creator>ERIK</dc:creator>
  <dc:description/>
  <dc:language>en-US</dc:language>
  <cp:lastModifiedBy>ERIK</cp:lastModifiedBy>
  <dcterms:modified xsi:type="dcterms:W3CDTF">2011-05-05T20:53:30Z</dcterms:modified>
  <cp:revision>1</cp:revision>
  <dc:subject/>
  <dc:title>Geen diatitel</dc:title>
</cp:coreProperties>
</file>