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81B-9F09-4676-91EA-EC44B20A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E85-D906-445A-AD83-25987AF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2F3-E7BA-46F2-8261-653FFA7E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78D-C47D-4AEB-BCE9-CADD5AF9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495-9ABB-4666-9CDB-E674371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89E-0A98-4DE4-8D7F-9A618166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3D1-D186-42B4-9DDF-EE5D573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CFA-497A-48F2-B031-7ABA3D8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BC1-BA3A-45E9-8185-3E8F194C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B7F-17DA-41B0-BAFF-CC4FAC1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DB9-98D0-4841-A8A7-A0E0758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931-2532-46DC-B0BE-FF96905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D66-ADE8-488C-A058-02F50D33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45:22Z</dcterms:created>
  <dc:creator>ERIK</dc:creator>
  <dc:description/>
  <dc:language>en-US</dc:language>
  <cp:lastModifiedBy>ERIK</cp:lastModifiedBy>
  <dcterms:modified xsi:type="dcterms:W3CDTF">2011-05-02T19:49:32Z</dcterms:modified>
  <cp:revision>1</cp:revision>
  <dc:subject/>
  <dc:title>Geen diatitel</dc:title>
</cp:coreProperties>
</file>