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9B3-6C1E-43ED-B6FE-7953D204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4C0-7554-403A-A593-8A900E22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AEC-03C0-4C3A-ACFA-5D264C9F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C5C-4665-4060-A392-84A71B2F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455-3937-4DE9-955E-0E8B85B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F51-DCD1-46F8-AA0C-26794C15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89F-458B-413B-8826-81373FA9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75E-59A6-48B2-94E6-E12FD724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FD2-07BD-4E96-952C-D116B350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84E-FB18-4CB8-A342-A26D530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B78-1378-4EF5-B4CA-241A7F9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078-DC27-470A-89BB-ABC3E95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FD7-4676-4338-A711-D1C2009C1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45:22Z</dcterms:created>
  <dc:creator>ERIK</dc:creator>
  <dc:description/>
  <dc:language>en-US</dc:language>
  <cp:lastModifiedBy>ERIK</cp:lastModifiedBy>
  <dcterms:modified xsi:type="dcterms:W3CDTF">2011-05-02T19:49:32Z</dcterms:modified>
  <cp:revision>1</cp:revision>
  <dc:subject/>
  <dc:title>Geen diatitel</dc:title>
</cp:coreProperties>
</file>