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FCF-4A54-4C57-8D16-E6AF4292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D7A-1C4E-41A7-AC46-928A7E4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54E-FB9A-4CE8-A5CB-BAB9C4A3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E58-249D-4C4E-B7CE-92807DA5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9B3-3BFD-41D5-8C95-2CFA39C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BD9-9009-46B6-9136-060EA852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95A-92C8-490F-B068-01BD2F49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F73-7A7A-4E21-AB07-5E9569AE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F82-EA08-45DE-9422-4BF7B623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D0D-0599-4675-AFD7-25126B1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0AE-9D1D-4B1D-AFBE-A423423B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002-D254-4F87-905A-F0BFC347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BB1-9ABE-4A73-B447-46F53AF9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43:20Z</dcterms:created>
  <dc:creator>ERIK</dc:creator>
  <dc:description/>
  <dc:language>en-US</dc:language>
  <cp:lastModifiedBy>ERIK</cp:lastModifiedBy>
  <dcterms:modified xsi:type="dcterms:W3CDTF">2011-05-02T19:45:07Z</dcterms:modified>
  <cp:revision>1</cp:revision>
  <dc:subject/>
  <dc:title>Geen diatitel</dc:title>
</cp:coreProperties>
</file>