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B75-321C-4545-963C-5C917C5C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623-B103-4088-B9D9-839FDB75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06E-4D34-43F1-B34A-7FC7B3FD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B04-AA8E-4D10-9795-09078A5F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6D6-B399-47D3-B56E-3FAF8547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6B0-4423-4E9F-9226-C0B1BA5E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BAC-A5ED-4B49-86B7-20E7792D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DA4-6C3D-4531-BF1C-7BAC311A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C3E-F7CE-4F22-8C47-95484673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FF8-CD4B-44B3-87A4-798E2103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2FB-FAF9-47FB-B8B5-E9D1C4C0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0B3-EF08-468D-8F93-F09D6345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00C2-82E4-4250-9476-04DC62973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9:43:20Z</dcterms:created>
  <dc:creator>ERIK</dc:creator>
  <dc:description/>
  <dc:language>en-US</dc:language>
  <cp:lastModifiedBy>ERIK</cp:lastModifiedBy>
  <dcterms:modified xsi:type="dcterms:W3CDTF">2011-05-02T19:45:07Z</dcterms:modified>
  <cp:revision>1</cp:revision>
  <dc:subject/>
  <dc:title>Geen diatitel</dc:title>
</cp:coreProperties>
</file>