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788-0505-457A-A187-44F31A46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61E-BAD1-4327-90E8-7A0EE645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525-851C-47A0-ACE1-9AA217DE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C51-C8CF-47FF-A2DC-F235AD4F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088-D14F-42C9-BD3D-EA95DF5E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751-0C25-46DC-B69E-7BB80531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451-AF5C-4605-BEC1-7F486ED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387-0889-4A10-8582-A5CD71DB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5A0-AAB2-4E81-A814-435CAC3B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DDA-2C42-4636-A7D1-09D3207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B54-E084-4413-BF06-7F65964E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938-7738-4466-9357-DF05E982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4A93-8943-44E2-965C-E707FEF2E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69199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9:33:31Z</dcterms:created>
  <dc:creator>ERIK</dc:creator>
  <dc:description/>
  <dc:language>en-US</dc:language>
  <cp:lastModifiedBy>ERIK</cp:lastModifiedBy>
  <dcterms:modified xsi:type="dcterms:W3CDTF">2011-05-02T19:38:50Z</dcterms:modified>
  <cp:revision>1</cp:revision>
  <dc:subject/>
  <dc:title>Geen diatitel</dc:title>
</cp:coreProperties>
</file>