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AA6-E152-489A-A917-01F17C62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82B-7EFE-40FF-BD64-7F6B1272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200-1476-4541-8826-2F4DA018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B8B-7773-4220-AE54-BD859EDF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358-FCD2-4A6E-8F48-52854366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278-B8C8-4AC8-BC52-74CC2105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B08-62B5-480C-BD3C-0DBCE52E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F03-4A13-4DF6-88EC-12552E19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945-A59E-417C-84AB-EC057988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FEC-4A2F-4F4A-87A8-AB16ABA4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5D9-241B-4AE8-8522-3E9D15E0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AA0-1328-46D6-8E83-6A3DBA53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DA71-4DF1-4566-90B9-4CF5D31BA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69199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9:33:31Z</dcterms:created>
  <dc:creator>ERIK</dc:creator>
  <dc:description/>
  <dc:language>en-US</dc:language>
  <cp:lastModifiedBy>ERIK</cp:lastModifiedBy>
  <dcterms:modified xsi:type="dcterms:W3CDTF">2011-05-02T19:38:50Z</dcterms:modified>
  <cp:revision>1</cp:revision>
  <dc:subject/>
  <dc:title>Geen diatitel</dc:title>
</cp:coreProperties>
</file>