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657-04A8-4844-B370-67E3FB40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BD7-AB3D-4105-AA50-2332ED7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8F2-ADED-4956-A878-0BCD570F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3A4-626D-4DCB-8557-DB4DD086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82F-8B12-4A71-B174-DEA5431C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229-39FB-4500-8AD5-4DE04573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65A-6A2A-49F9-A201-07EF638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E54-F35E-47E7-B720-2ED89BE8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803-BDF0-4D11-B48C-7EA66FBD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78D-7A1C-420D-8102-A2B6CE3A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777-58AF-423E-84D6-0E2341D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5C7-326A-45FA-9C76-B8F67BA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3411-4D98-43D9-9EB7-E6299434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27:26Z</dcterms:created>
  <dc:creator>ERIK</dc:creator>
  <dc:description/>
  <dc:language>en-US</dc:language>
  <cp:lastModifiedBy>ERIK</cp:lastModifiedBy>
  <dcterms:modified xsi:type="dcterms:W3CDTF">2011-05-02T19:31:37Z</dcterms:modified>
  <cp:revision>1</cp:revision>
  <dc:subject/>
  <dc:title>Geen diatitel</dc:title>
</cp:coreProperties>
</file>