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E88-72E4-4B0F-B1AF-50651709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39B-902A-48EF-80AE-79F8E402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C90-AB48-4B04-9031-3AE4FEC2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1F0-9C7B-40FC-B8C1-CB9DFF3C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365-9A73-422F-9D57-524C0B41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330-C9FC-4B9E-A7C2-E8EFF625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985-BAF1-4E6A-BB92-CEBA112E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DB0-942F-4026-8570-4FE97424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734-A4ED-435A-ABAE-D72F7163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F98-2A36-4178-8270-0CD283BC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2E2-93EA-4D84-B07D-4A983B5D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837-ABB6-40AD-9B25-B8DCD91F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B78F-FE20-4D1D-BE63-30DF285FD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9:27:26Z</dcterms:created>
  <dc:creator>ERIK</dc:creator>
  <dc:description/>
  <dc:language>en-US</dc:language>
  <cp:lastModifiedBy>ERIK</cp:lastModifiedBy>
  <dcterms:modified xsi:type="dcterms:W3CDTF">2011-05-02T19:31:37Z</dcterms:modified>
  <cp:revision>1</cp:revision>
  <dc:subject/>
  <dc:title>Geen diatitel</dc:title>
</cp:coreProperties>
</file>