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F0CD-30B7-463C-A6D8-7A3F2432D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0F88-F0B6-4A74-9A42-D11937FF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C0FA-11E5-40FC-8940-9FCAAD285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9814-7B63-4C7E-A634-B2D3EDE98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8F26-9509-4408-AE01-97DBEDEA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5B1D-1689-40E6-9484-42825D47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81A2-FC58-41E3-8EE3-54E2AD97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FE7C-4887-455E-96E7-936B4724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CC3B-0989-44C5-8C64-EBB1A427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5AC2-8A42-424C-93BA-09D65F57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E0AA-AD2B-4F7E-B442-617363AC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4609-8A2E-4675-91C8-7226EF58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1686-EE4D-46F2-B8FB-6CCCE1638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17:20:59Z</dcterms:created>
  <dc:creator>ERIK</dc:creator>
  <dc:description/>
  <dc:language>en-US</dc:language>
  <cp:lastModifiedBy>ERIK</cp:lastModifiedBy>
  <dcterms:modified xsi:type="dcterms:W3CDTF">2011-05-01T17:25:12Z</dcterms:modified>
  <cp:revision>1</cp:revision>
  <dc:subject/>
  <dc:title>Geen diatitel</dc:title>
</cp:coreProperties>
</file>