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06D-8422-4E55-9C1F-167DC5F3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482-F0B5-46C9-A894-7F128240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0AC-B7B7-4377-AB1D-9F2471F0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A08-6A0D-4411-847B-E57843E2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D1D-E840-4A84-81F8-35D3D3DE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87F-6A58-4A95-8788-7A376E4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BBE-01FE-407D-A1AE-415AFAB9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D0-17F0-4A8D-95CA-39E1319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43A-4850-4765-910E-F6A3F9F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633-A1AC-4E8B-8E28-B14CDD93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B9C-1987-4B96-AC12-C8ADE95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563-1CC2-43C5-A162-CB8E77C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F98-0342-4632-A47F-42DACDC3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20:59Z</dcterms:created>
  <dc:creator>ERIK</dc:creator>
  <dc:description/>
  <dc:language>en-US</dc:language>
  <cp:lastModifiedBy>ERIK</cp:lastModifiedBy>
  <dcterms:modified xsi:type="dcterms:W3CDTF">2011-05-01T17:25:12Z</dcterms:modified>
  <cp:revision>1</cp:revision>
  <dc:subject/>
  <dc:title>Geen diatitel</dc:title>
</cp:coreProperties>
</file>