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089A-A14D-4D79-AA58-68B710FF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6AF6-390A-43DC-9648-036FA222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CF67-F633-4ABD-B458-D1B68232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F7A1-03CB-4301-A315-762AD0CA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10A6-FE34-4ED7-89EC-869A729B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6040-B2D3-4C56-B9C4-B455921E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767F-4BCB-412B-980B-63BD6288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2382-9F23-464B-9595-F4DE0731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F53F-ABC4-4C35-864A-DC7E6314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48D-A487-4021-A3AC-D2559A5A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EB29-5B5A-4351-8DE3-C2AB9779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86BF-1E88-41F8-8F1F-605E0FBA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D696-0BEC-481C-8771-EE83BAB311E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Tekstvak 4"/>
          <p:cNvSpPr/>
          <p:nvPr/>
        </p:nvSpPr>
        <p:spPr>
          <a:xfrm>
            <a:off x="1789920" y="920880"/>
            <a:ext cx="38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1     2       3       4      5      6      7       8      9      10     11  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kstvak 5"/>
          <p:cNvSpPr/>
          <p:nvPr/>
        </p:nvSpPr>
        <p:spPr>
          <a:xfrm>
            <a:off x="1557360" y="1928880"/>
            <a:ext cx="42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13   14      15    16    17     18    19     20    21    22    23     24    25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kstvak 6"/>
          <p:cNvSpPr/>
          <p:nvPr/>
        </p:nvSpPr>
        <p:spPr>
          <a:xfrm>
            <a:off x="2220120" y="2936880"/>
            <a:ext cx="29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26    27      28    29    30     31    32     33   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17:18:44Z</dcterms:created>
  <dc:creator>ERIK</dc:creator>
  <dc:description/>
  <dc:language>en-US</dc:language>
  <cp:lastModifiedBy>Erik de Backer ( 1 )</cp:lastModifiedBy>
  <dcterms:modified xsi:type="dcterms:W3CDTF">2017-08-18T09:03:01Z</dcterms:modified>
  <cp:revision>3</cp:revision>
  <dc:subject/>
  <dc:title>Geen diatitel</dc:title>
</cp:coreProperties>
</file>