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9F2-C150-462F-8958-84CC1C86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E81-943D-4EC6-AF6E-73271B66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8A7-7575-45E1-8198-6B3D06D3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621-F444-44EF-B3FE-C13404F9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ECE-39DA-4786-8F39-1EE98069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760-3916-4162-B80B-EBD8CBAA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269-87A5-42D4-954B-7B535693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A7D-AA69-4650-AEF7-F5825FBF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422-9EEC-489C-AB53-C37443E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7AC-A2BC-4EFB-94BE-13C8214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966-1D9E-429B-956C-6F30326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ADF-73D1-4805-888B-43DE849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207A-8166-4221-A11B-C46C093EE8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1789920" y="920880"/>
            <a:ext cx="38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1     2       3       4      5      6      7       8      9      10     11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1557360" y="1928880"/>
            <a:ext cx="42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13   14      15    16    17     18    19     20    21    22    23     24    25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kstvak 6"/>
          <p:cNvSpPr/>
          <p:nvPr/>
        </p:nvSpPr>
        <p:spPr>
          <a:xfrm>
            <a:off x="2220120" y="293688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26    27      28    29    30     31    32     33   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7:18:44Z</dcterms:created>
  <dc:creator>ERIK</dc:creator>
  <dc:description/>
  <dc:language>en-US</dc:language>
  <cp:lastModifiedBy>Erik de Backer ( 1 )</cp:lastModifiedBy>
  <dcterms:modified xsi:type="dcterms:W3CDTF">2017-08-18T09:03:01Z</dcterms:modified>
  <cp:revision>3</cp:revision>
  <dc:subject/>
  <dc:title>Geen diatitel</dc:title>
</cp:coreProperties>
</file>