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4BF-3E7B-4ECA-BDF0-511E1CCB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DCB-F995-4B6F-9746-17A116CA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DA9-9713-422A-80B2-ADCFE8BB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377-9DEB-4ADB-B6A1-6446285E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897-A1D8-4772-8D79-6788713D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8C8-1D13-4D79-A090-2E971EB4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92A-EB9F-4B44-A244-7D233027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E36-6DB5-41F8-B84C-7944D847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438-9D0A-4915-9D62-7DE871B2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F44-31F9-46BF-BA40-B45C18F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5BF-C029-49E2-960E-448F6DA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09C-1AA9-4E5B-81A7-C820EDF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C0D7-761B-40E8-81D9-F2DC1FA0D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18:44Z</dcterms:created>
  <dc:creator>ERIK</dc:creator>
  <dc:description/>
  <dc:language>en-US</dc:language>
  <cp:lastModifiedBy>ERIK</cp:lastModifiedBy>
  <dcterms:modified xsi:type="dcterms:W3CDTF">2011-05-01T17:20:42Z</dcterms:modified>
  <cp:revision>1</cp:revision>
  <dc:subject/>
  <dc:title>Geen diatitel</dc:title>
</cp:coreProperties>
</file>