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4D5-A331-4DBF-B0CE-08741A6D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F36-CE86-45C2-B971-B0D8FB9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57C-2122-407E-9D7C-2D48517F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5A0-0185-4842-8DA1-A41E0AC1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F70-1412-407C-93F9-2C1B8837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89B-8DD7-4A07-8B56-C6AA7ED9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696-DEC3-4D54-B282-502DEB53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C0B-242E-432F-A05F-25D684D3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63B-A8D3-41C8-94CB-3E9FB939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538-8EC9-4611-93EF-4529D5ED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677-843D-4227-A3AB-522754D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13B-18C2-4077-936A-559883D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9F62-9074-4E78-877C-7BDA3290E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7:18:44Z</dcterms:created>
  <dc:creator>ERIK</dc:creator>
  <dc:description/>
  <dc:language>en-US</dc:language>
  <cp:lastModifiedBy>ERIK</cp:lastModifiedBy>
  <dcterms:modified xsi:type="dcterms:W3CDTF">2011-05-01T17:20:42Z</dcterms:modified>
  <cp:revision>1</cp:revision>
  <dc:subject/>
  <dc:title>Geen diatitel</dc:title>
</cp:coreProperties>
</file>