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F96-BB69-46D3-86B2-9A33D01F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3A1-14F4-4558-A327-98D039D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05A-EDC4-40D3-8EB4-573A32DC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16F-504D-41AB-BE2F-06DEC85C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44A-7847-4005-A02D-D413856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35E-CA9D-4226-9386-2A1755A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0F0-A22B-4588-9BD1-47ED108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2B8-6B25-4628-9E6C-89F17944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F42-6A06-4362-8865-51FE349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F9B-2C4B-4470-89FB-68B4348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3B1-24DF-4310-9B1C-866F2E1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C53-C989-4F75-94E2-DD7EE1A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10A-9EF6-4523-AD92-A18E1032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56:10Z</dcterms:created>
  <dc:creator>ERIK</dc:creator>
  <dc:description/>
  <dc:language>en-US</dc:language>
  <cp:lastModifiedBy>ERIK</cp:lastModifiedBy>
  <dcterms:modified xsi:type="dcterms:W3CDTF">2011-05-01T16:59:37Z</dcterms:modified>
  <cp:revision>1</cp:revision>
  <dc:subject/>
  <dc:title>Geen diatitel</dc:title>
</cp:coreProperties>
</file>