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8441-4A4D-4982-9D32-241DAAF39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1C75-D6AD-4E07-A2B8-6016F431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BC44-4838-4D0C-A60E-2EC7933E0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FEC8-9705-4FFD-A580-4AAC420B3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C095-AD9B-442B-8F03-47FC5F93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E0FF-A700-4048-883D-8679C12B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2FE9-8A24-4BEE-97F2-AD12E39E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6AD5-0682-4EFE-8009-BDD9E1E9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DA56-9C20-45BA-8EAF-050B5312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68DC-1802-4FB9-8D5A-DB29EC08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D186-3A44-43E7-AF56-765B5FD6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9BFF-B2DC-47D1-B073-16F50F1B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1E57-5342-4881-A850-8F57436A4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1192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1T16:56:10Z</dcterms:created>
  <dc:creator>ERIK</dc:creator>
  <dc:description/>
  <dc:language>en-US</dc:language>
  <cp:lastModifiedBy>ERIK</cp:lastModifiedBy>
  <dcterms:modified xsi:type="dcterms:W3CDTF">2011-05-01T16:59:37Z</dcterms:modified>
  <cp:revision>1</cp:revision>
  <dc:subject/>
  <dc:title>Geen diatitel</dc:title>
</cp:coreProperties>
</file>