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842-72B5-4735-A5F3-97C57503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632-50A5-416A-97FC-CE49ED62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56E-8955-46F8-B86E-A2E913C4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202-DE60-4A56-8E14-A29BC477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833-0A88-4E16-965E-BA1538C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9B0-62D1-425D-B842-3FADB96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F4E-8B76-4675-951F-55A26DA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BC1-D5DB-4F54-8246-BC4C621A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3B2-73B4-40DC-A54A-5E600C78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226-5C69-4B75-864F-2478058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86F-E1AD-4EE4-A73A-5C391B3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4CD-2D4B-4878-8928-47D1559F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8A8-1CDA-4AC1-B500-CD9319852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48:15Z</dcterms:created>
  <dc:creator>ERIK</dc:creator>
  <dc:description/>
  <dc:language>en-US</dc:language>
  <cp:lastModifiedBy>ERIK</cp:lastModifiedBy>
  <dcterms:modified xsi:type="dcterms:W3CDTF">2011-05-01T16:54:46Z</dcterms:modified>
  <cp:revision>1</cp:revision>
  <dc:subject/>
  <dc:title>Geen diatitel</dc:title>
</cp:coreProperties>
</file>