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098-891E-40C8-AE8D-3E32E996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4CA-537F-4197-BC80-338DBEE7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B24-E246-4002-9D6A-6CC429AC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1C6-63D5-4C82-BC84-3F6D7ECD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65A-0E07-4C3A-B215-FF18D610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E2D-9742-4B66-8955-2D59CBF6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9B1-B25B-4300-B79B-17775E0E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90A-98D3-46A2-89D1-8CD61830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11D-39DF-474E-B1EF-77F75C01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C7FA-192D-4155-8BC9-91AA9F5D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5B2-D2C9-4CE3-9643-41691C26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2D5-D42E-4E2E-97C0-ED0D034B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8374-37A4-46A5-B9D9-B37FF9BE6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6:48:15Z</dcterms:created>
  <dc:creator>ERIK</dc:creator>
  <dc:description/>
  <dc:language>en-US</dc:language>
  <cp:lastModifiedBy>ERIK</cp:lastModifiedBy>
  <dcterms:modified xsi:type="dcterms:W3CDTF">2011-05-01T16:54:46Z</dcterms:modified>
  <cp:revision>1</cp:revision>
  <dc:subject/>
  <dc:title>Geen diatitel</dc:title>
</cp:coreProperties>
</file>