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1EB-5499-4148-8BAE-8F4F089B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26C-2694-41AA-930B-FC6DB6B0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9CD-AD04-4837-9E40-D430F8EE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05D-945A-4EBA-866D-648E527B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373-2050-401B-8CAD-3B03AA2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769-56CC-4690-9D2A-22ACF2E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99A-C8DD-41D1-8140-0ACBB24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07E-281B-484E-9E2B-73E89259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7CD-7B95-433D-9C15-D50DB5DF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7A9-3896-4FA5-921B-E96E58B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07F-981B-4B59-998E-C9BB9D6D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78B-025C-48CD-80BF-B6B13C6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FA2-B0AD-478D-8402-FAF6A386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6858000" cy="9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2:00:55Z</dcterms:created>
  <dc:creator>ERIK</dc:creator>
  <dc:description/>
  <dc:language>en-US</dc:language>
  <cp:lastModifiedBy>ERIK</cp:lastModifiedBy>
  <dcterms:modified xsi:type="dcterms:W3CDTF">2011-04-28T22:04:56Z</dcterms:modified>
  <cp:revision>1</cp:revision>
  <dc:subject/>
  <dc:title>Geen diatitel</dc:title>
</cp:coreProperties>
</file>