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3B2-786F-4ACC-8BDF-1C0A45F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8EB-1ED1-42C2-B399-5021878D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25F-CEA8-4EFC-A1BC-BD049E77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BF4-5E74-4A57-A35F-4923D0B7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742-CEF4-4625-BDC8-A207E8C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FA8-06FB-47CC-9006-5EAEDF2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A11-BFCE-4B43-8A3D-94F1A82F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99-ED02-4DEC-AE4A-F025A7F9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0F2-4809-473F-A497-7B99E91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69E-574B-44B6-8A45-8E061CF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AF3-72DA-4675-8959-AFF8487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8C3-FC39-40F3-AD52-1FC5BC3F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846-3BBC-4598-967E-D01A5C9A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6858000" cy="9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2:00:55Z</dcterms:created>
  <dc:creator>ERIK</dc:creator>
  <dc:description/>
  <dc:language>en-US</dc:language>
  <cp:lastModifiedBy>ERIK</cp:lastModifiedBy>
  <dcterms:modified xsi:type="dcterms:W3CDTF">2011-04-28T22:04:56Z</dcterms:modified>
  <cp:revision>1</cp:revision>
  <dc:subject/>
  <dc:title>Geen diatitel</dc:title>
</cp:coreProperties>
</file>