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87B-9332-4F3E-885C-EB540B64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9F7-7BCE-46E1-8F5F-7F7E7802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FF5-4A9D-4951-BB5B-A46A0EA0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60F-FA2A-47F9-8F10-4585A794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C31-4FDD-43EC-9EE2-27D8D674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4AE-6C5D-451C-B489-70772B5C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DE4-5003-4427-87C3-A82BCD6C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AD9-DB23-424E-BF9A-C2BAF192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7E2-B4E9-4C1A-B02C-17ABF3DC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612-3F19-4928-B353-C7E7B0CF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16F-7067-4464-A340-2424BACA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EE4-A770-4FE2-B02F-971FC67C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D823-BB4F-40A7-B36C-7FB425508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53:59Z</dcterms:created>
  <dc:creator>ERIK</dc:creator>
  <dc:description/>
  <dc:language>en-US</dc:language>
  <cp:lastModifiedBy>ERIK</cp:lastModifiedBy>
  <dcterms:modified xsi:type="dcterms:W3CDTF">2011-04-28T21:58:33Z</dcterms:modified>
  <cp:revision>1</cp:revision>
  <dc:subject/>
  <dc:title>Geen diatitel</dc:title>
</cp:coreProperties>
</file>