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0A29-1100-4283-BC14-769878B3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3D46-BD4F-48AF-B927-FC697191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C95E-5198-4AA9-9A0D-B4689631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55C1-E1C0-437B-A1CB-6FE3EC20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7F87-1DC8-491B-855A-92E65545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31BF-9AF1-4AC9-8B0D-33C2D625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94AB-C039-47D6-97CD-88E48FA1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6FE3-FD30-4A92-90F0-95C54EF4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D5CF-B784-400A-BE79-E3228199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C6E0-B276-4B3C-B7BD-74D06CAD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9BEA-456C-4A30-99D2-BE4679AB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018-68A8-48A5-83DF-BA2EAF8F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4DC9-EA9B-4301-A483-6AA94E10E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21:53:59Z</dcterms:created>
  <dc:creator>ERIK</dc:creator>
  <dc:description/>
  <dc:language>en-US</dc:language>
  <cp:lastModifiedBy>ERIK</cp:lastModifiedBy>
  <dcterms:modified xsi:type="dcterms:W3CDTF">2011-04-28T21:58:33Z</dcterms:modified>
  <cp:revision>1</cp:revision>
  <dc:subject/>
  <dc:title>Geen diatitel</dc:title>
</cp:coreProperties>
</file>