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45B6-C45F-48C3-9A13-06A8B720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804-C484-4E66-BD2A-D3777859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F53-44F0-479A-B96B-D5B25834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8D6-1C13-47EE-9837-C459C4EC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AD9-1C61-4E70-A175-FB6ACEF9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843-64B5-4FE3-8BD7-AB5DE3BE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90A-18C6-463D-9980-1A1D7489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499-9DA8-45DF-A0CB-0A80B92C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63D3-30E4-430F-BB39-91FDDFDB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52B-3936-406A-8DDC-07FC743C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60F-4125-4448-AB56-5F690137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0851-F326-4329-9CF9-6E54D46C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DBD3-4546-45D7-9646-93F737687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1:49:08Z</dcterms:created>
  <dc:creator>ERIK</dc:creator>
  <dc:description/>
  <dc:language>en-US</dc:language>
  <cp:lastModifiedBy>ERIK</cp:lastModifiedBy>
  <dcterms:modified xsi:type="dcterms:W3CDTF">2011-04-28T21:53:46Z</dcterms:modified>
  <cp:revision>1</cp:revision>
  <dc:subject/>
  <dc:title>Geen diatitel</dc:title>
</cp:coreProperties>
</file>