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BB9-66F0-4132-B184-63A97D66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F4B-B11B-4FED-8677-40266DD1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AB7-660E-43F3-9C48-5D5F0387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C43-B1E8-46DB-BDF1-6EDAEA45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2C0-C359-49BE-AFB2-30EAB772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383-5D5D-48FA-94B6-638560D6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210-92EA-4C8D-B440-31F94C75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F63-0F46-4C98-BC52-E9243B2B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EE6-0157-4005-BBD3-F10BF5A5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811-A867-4464-9EA9-966B488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256-DF7E-4062-AA88-F2BCE3F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F5D-65E3-4E21-A940-5CD5EE2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B7B1-B0B3-4917-A8C8-60857998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49:08Z</dcterms:created>
  <dc:creator>ERIK</dc:creator>
  <dc:description/>
  <dc:language>en-US</dc:language>
  <cp:lastModifiedBy>ERIK</cp:lastModifiedBy>
  <dcterms:modified xsi:type="dcterms:W3CDTF">2011-04-28T21:53:46Z</dcterms:modified>
  <cp:revision>1</cp:revision>
  <dc:subject/>
  <dc:title>Geen diatitel</dc:title>
</cp:coreProperties>
</file>