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2987-09B8-4EA4-AF78-3C4A56B1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F701-C3CE-4198-902F-AEA5AC1C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541E-7BED-441C-8497-3E2A30B2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6E7E-0C2A-4080-8CC3-097FB0D3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17E2-29C5-4C09-B44B-6B1EC5EA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4928-71B8-4FB9-9A3C-4250C9D3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9825-D75C-4B9D-8BF8-AF5B09F3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BF8-7233-47F9-A421-7873053F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21E2-C634-4F19-98C2-DC237834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DCE9-F45C-4BC7-BA39-1CC5FEB6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8BD-FB47-4399-AAFF-60264B57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B37D-0F9B-4B61-9483-D0C9F61F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DBF4-0E4B-4FFD-83A8-6C3232D0B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581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21:46:34Z</dcterms:created>
  <dc:creator>ERIK</dc:creator>
  <dc:description/>
  <dc:language>en-US</dc:language>
  <cp:lastModifiedBy>ERIK</cp:lastModifiedBy>
  <dcterms:modified xsi:type="dcterms:W3CDTF">2011-04-28T21:48:56Z</dcterms:modified>
  <cp:revision>1</cp:revision>
  <dc:subject/>
  <dc:title>Geen diatitel</dc:title>
</cp:coreProperties>
</file>