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778-3DA3-49EA-B156-F2011178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262-E547-42EF-A91B-F37236E3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4F1-F6D8-4240-BCF3-41B23918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2D3-69DA-4649-95B8-C125B451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555-E32A-4DA3-9966-465A7E1B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904-5CEF-4C9E-83C8-5161B04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2F7-79BB-4D93-9F17-42E10DB6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A30-9035-411A-9AE7-5D48F045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4CA-000B-40BB-B1C5-80150BA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072-723B-4A46-92C3-4DE9B8BA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A44-B00D-48DF-9159-8C1E33B0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7EA-E17E-4191-BA21-3C883E66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FDD1-C849-49C3-8030-9E98C1FA0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581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46:34Z</dcterms:created>
  <dc:creator>ERIK</dc:creator>
  <dc:description/>
  <dc:language>en-US</dc:language>
  <cp:lastModifiedBy>ERIK</cp:lastModifiedBy>
  <dcterms:modified xsi:type="dcterms:W3CDTF">2011-04-28T21:48:56Z</dcterms:modified>
  <cp:revision>1</cp:revision>
  <dc:subject/>
  <dc:title>Geen diatitel</dc:title>
</cp:coreProperties>
</file>