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2CF-B1CE-4A4F-9174-FE751435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E68-4A12-4533-822F-51A1C94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E96-6204-44EA-B82F-63F0EAF5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64D-5839-4449-8FD6-9D3DEA7E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29B-6528-44FA-B1B3-B96684A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E75-1BDB-41BC-8180-566DAD8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067-5F3E-4D5E-AAAD-3CDF0B05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C28-3FD1-4C96-87D5-0FEC867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E20-427B-4F1B-90B4-FB3C07FE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DB8-C113-48E2-A9EE-28D9C25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AA1-228A-413A-997F-9DADBD5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D7F-649B-4239-94E2-9E7AB5D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8C0D-C16F-4355-95B2-A44A352D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00160" y="0"/>
            <a:ext cx="70581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5:46Z</dcterms:created>
  <dc:creator>ERIK</dc:creator>
  <dc:description/>
  <dc:language>en-US</dc:language>
  <cp:lastModifiedBy>ERIK</cp:lastModifiedBy>
  <dcterms:modified xsi:type="dcterms:W3CDTF">2011-04-28T21:41:45Z</dcterms:modified>
  <cp:revision>1</cp:revision>
  <dc:subject/>
  <dc:title>Geen diatitel</dc:title>
</cp:coreProperties>
</file>