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33D-589E-464B-8E7D-C8935E3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C5D-C0F3-4470-972C-09E3348B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A74-3745-48DB-AE2F-D7CCD97C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C21-DE48-40A8-8E71-9C43AF27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4C5-84DC-448F-9BE0-AE4FE07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3F8-007F-4953-B47D-A3BEE68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4F3-ED9E-401F-AE75-A1BDA3D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966-E8A4-4A39-A2F9-827E66E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7AE-0EBB-453A-B688-4DAE1F1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1DE-1F14-44F5-9745-4587A39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9D9-EBEE-4242-BA6B-E1FEEFB1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76B-519B-40CA-BFA7-EEFF2C3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711-08D6-487E-85FF-1023633DD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0160" y="0"/>
            <a:ext cx="70581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5:46Z</dcterms:created>
  <dc:creator>ERIK</dc:creator>
  <dc:description/>
  <dc:language>en-US</dc:language>
  <cp:lastModifiedBy>ERIK</cp:lastModifiedBy>
  <dcterms:modified xsi:type="dcterms:W3CDTF">2011-04-28T21:41:45Z</dcterms:modified>
  <cp:revision>1</cp:revision>
  <dc:subject/>
  <dc:title>Geen diatitel</dc:title>
</cp:coreProperties>
</file>