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5A4B-F2E2-498B-935A-92BD6EE8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CF4B-06DD-4AC6-BAA3-37B9AD3E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068C-35F8-47A8-9B29-577BD8E5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2DDC-0390-43F5-B6EF-14F97549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8322-8666-4DAB-B806-24409177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A60E-6C76-40C7-B980-4275780B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78AB-1681-47A9-BF7C-051DC670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03F9-D588-4C16-8F10-0A619914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4BD5-23A1-4DCB-BB0F-963007DE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C868-0FCE-4104-B1E7-B501E241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2355-8EB8-4612-A48B-5F55DFA4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7874-118A-4AED-80B5-9D880351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D8CC-868C-4839-8F98-8340B1F25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SCN2105" descr=""/>
          <p:cNvPicPr/>
          <p:nvPr/>
        </p:nvPicPr>
        <p:blipFill>
          <a:blip r:embed="rId1"/>
          <a:stretch/>
        </p:blipFill>
        <p:spPr>
          <a:xfrm>
            <a:off x="-11201400" y="-6019920"/>
            <a:ext cx="29260800" cy="2194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52560"/>
            <a:ext cx="6858000" cy="9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21:31:36Z</dcterms:created>
  <dc:creator>ERIK</dc:creator>
  <dc:description/>
  <dc:language>en-US</dc:language>
  <cp:lastModifiedBy>ERIK</cp:lastModifiedBy>
  <dcterms:modified xsi:type="dcterms:W3CDTF">2011-04-28T21:35:01Z</dcterms:modified>
  <cp:revision>1</cp:revision>
  <dc:subject/>
  <dc:title>Geen diatitel</dc:title>
</cp:coreProperties>
</file>