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E6F-A45F-4972-B5AC-C759BD4D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55A-2F51-4F55-AEE1-984BB7A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C5D-EDC8-4CEB-A8BD-6B2AD90D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4B4-F13A-478E-BF6D-24348E57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9E2-17D5-408D-831C-D87C99D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B4B-4523-4BC4-AF3D-B26C6F97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3AF-0CFC-4DEA-80A7-D5AB2265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9F1-53D8-451E-82A4-5E8B6F9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DD3-A6D0-473C-B8DF-81C98652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EC7-43F6-467B-9F6B-17E3954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1E2-11B0-4CED-A307-4FC621C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876-6C05-444C-9F48-5F1CE04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45E1-89EA-42BD-A117-C4B3EED9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N2105" descr=""/>
          <p:cNvPicPr/>
          <p:nvPr/>
        </p:nvPicPr>
        <p:blipFill>
          <a:blip r:embed="rId1"/>
          <a:stretch/>
        </p:blipFill>
        <p:spPr>
          <a:xfrm>
            <a:off x="-11201400" y="-6019920"/>
            <a:ext cx="29260800" cy="2194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52560"/>
            <a:ext cx="6858000" cy="9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1:36Z</dcterms:created>
  <dc:creator>ERIK</dc:creator>
  <dc:description/>
  <dc:language>en-US</dc:language>
  <cp:lastModifiedBy>ERIK</cp:lastModifiedBy>
  <dcterms:modified xsi:type="dcterms:W3CDTF">2011-04-28T21:35:01Z</dcterms:modified>
  <cp:revision>1</cp:revision>
  <dc:subject/>
  <dc:title>Geen diatitel</dc:title>
</cp:coreProperties>
</file>