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DCD-A473-4E5C-937F-3003B01D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988-5B8E-4146-A438-E60E457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B7F-CF66-4F42-853F-027E95B4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D11-7EBB-4C45-855B-1555B616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38B-8CC3-4BF9-B4EB-1D388359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76D-D30E-4BC2-8F3A-3D25E159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EB9-3724-4A2D-BCA7-C7F9F86B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7B8-8D8A-4CCF-9975-AAF18038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2AD-077C-4B45-A85A-6D09092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611-C92F-4F62-81EF-F23F6E5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A12-3076-40B6-8886-59C4963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AD9-F0F0-4C71-B86E-300CF5B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4741-FD9E-4751-A4AE-0000A824D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9680" y="0"/>
            <a:ext cx="71359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26:48Z</dcterms:created>
  <dc:creator>ERIK</dc:creator>
  <dc:description/>
  <dc:language>en-US</dc:language>
  <cp:lastModifiedBy>ERIK</cp:lastModifiedBy>
  <dcterms:modified xsi:type="dcterms:W3CDTF">2009-08-07T09:30:35Z</dcterms:modified>
  <cp:revision>1</cp:revision>
  <dc:subject/>
  <dc:title>Geen diatitel</dc:title>
</cp:coreProperties>
</file>