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923B-CEEE-4119-BA33-05F2EDDC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FF1-A36C-4E95-B8DA-0C25C5C1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2FDF-D684-4865-845D-E2C3C7FF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8BC-10BC-41C0-837C-4C0C8E3D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D2B-244F-4F35-B5C2-FA3BA042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3C40-01DE-4544-BA6C-97FA6593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E4B-D6C6-4F1D-86DA-C24E7DE5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A59-D621-4DDC-BD0A-B1DDB98F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83A-2F16-4280-9132-01B83620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E8FA-43B6-4946-A969-C2F0E605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FE0-7CE9-4E2A-9E21-5DDDF8D3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7F0C-A5E9-41EB-B5F0-BB8E28E7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F6C5-D588-464C-AE79-7E4CE8975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39680" y="0"/>
            <a:ext cx="713592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26:48Z</dcterms:created>
  <dc:creator>ERIK</dc:creator>
  <dc:description/>
  <dc:language>en-US</dc:language>
  <cp:lastModifiedBy>ERIK</cp:lastModifiedBy>
  <dcterms:modified xsi:type="dcterms:W3CDTF">2009-08-07T09:30:35Z</dcterms:modified>
  <cp:revision>1</cp:revision>
  <dc:subject/>
  <dc:title>Geen diatitel</dc:title>
</cp:coreProperties>
</file>