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19B6-E9BB-4547-A09E-9862C817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CB0-A200-4360-A92C-1DCC6D4D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EE5E-CB35-450F-BFF6-4DBAD2D0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3C47-0392-4871-8348-9DBB9FD9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D517-48F2-46DD-9F3F-0282EDF0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4DCE-E245-46CC-A2E4-80F15E09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50B7-6383-4EEC-B064-4DE51972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A780-1CE8-4C50-A60F-ED481565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B81A-1D04-459D-A527-7572E35D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FDCA-4B5B-4BD8-9A55-7E08E215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15C0-3D12-4045-BCF5-A5B7458B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DA49-6684-4CE9-8B9B-7360E96E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AD10-154A-403F-AB85-2CC39F802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39680" y="0"/>
            <a:ext cx="71373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20:45Z</dcterms:created>
  <dc:creator>ERIK</dc:creator>
  <dc:description/>
  <dc:language>en-US</dc:language>
  <cp:lastModifiedBy>ERIK</cp:lastModifiedBy>
  <dcterms:modified xsi:type="dcterms:W3CDTF">2009-08-07T09:26:33Z</dcterms:modified>
  <cp:revision>1</cp:revision>
  <dc:subject/>
  <dc:title>Geen diatitel</dc:title>
</cp:coreProperties>
</file>