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196-F893-4297-90D8-C114505F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2AC-8F43-4838-B0C8-CC1C4CE0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87B-3E58-4B8D-BCAC-E16B4461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D2E-2222-465C-97E0-23533D4E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FAD-3310-4E8F-9654-630B7A4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498-6EF7-498C-94DE-45168F77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267-7712-4A5E-B7B4-2AA41EE3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9E9-9A1D-4A79-B597-AEF5B6CB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3F0-1C91-4E06-9B6D-51E3268E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F22-8E57-4547-9DC7-07440BF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107-CB1F-484C-9D8A-FD71E3E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CEC-26C4-4947-91FD-9B2BA0F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903D-39BD-43C6-B3D8-518BF87C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20:45Z</dcterms:created>
  <dc:creator>ERIK</dc:creator>
  <dc:description/>
  <dc:language>en-US</dc:language>
  <cp:lastModifiedBy>ERIK</cp:lastModifiedBy>
  <dcterms:modified xsi:type="dcterms:W3CDTF">2009-08-07T09:26:33Z</dcterms:modified>
  <cp:revision>1</cp:revision>
  <dc:subject/>
  <dc:title>Geen diatitel</dc:title>
</cp:coreProperties>
</file>