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8D3-6DAA-4505-BA36-6CAA38B3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EBA-7A4F-4231-9F71-067C16C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84D-0FB0-4915-9517-03262A10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C0D-D042-4D9B-84EA-2F2F7854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0D5-4601-4291-AE61-60C0B5E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2AB-EC46-4C5D-AF27-C4DA11F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CC3-26AB-4EE3-AB5B-7FE720F1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558-C3EC-4B03-AF77-9B0FC03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B92-A5AE-4C5A-AAE3-378B73B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58F-CA9A-43D5-A012-9E235503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8B1-8E6D-4867-9A17-5C0400D6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8AA-3042-4871-8522-43F3158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43EF-5EC2-454A-905E-C37B3B806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18:47Z</dcterms:created>
  <dc:creator>ERIK</dc:creator>
  <dc:description/>
  <dc:language>en-US</dc:language>
  <cp:lastModifiedBy>ERIK</cp:lastModifiedBy>
  <dcterms:modified xsi:type="dcterms:W3CDTF">2009-08-07T09:20:38Z</dcterms:modified>
  <cp:revision>1</cp:revision>
  <dc:subject/>
  <dc:title>Geen diatitel</dc:title>
</cp:coreProperties>
</file>