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206C-75F1-4C1A-A7FD-96631130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3B0C-D005-4537-ACD5-E2BC84D3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C600-F3CA-4562-9E8F-43EA159B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C279-2313-42FC-86FE-62D9EDA9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E5D9-5317-435B-B78F-A3B60A19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4677-AE44-4DCA-85D3-D57C86AE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D49B-4391-4A2D-BDC0-D3F6C210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6F0F-CC13-4220-BFDB-DC20A4E1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8DA-C90C-4F1D-8E28-04485875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1402-7F98-40C2-BC28-64D796B1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8F41-E2C3-4F28-BF33-D11748A0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5237-1D43-4838-9E9A-7F186D56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0C5E-CFF3-46C8-BC74-A2A2260F3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39680" y="0"/>
            <a:ext cx="71373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18:47Z</dcterms:created>
  <dc:creator>ERIK</dc:creator>
  <dc:description/>
  <dc:language>en-US</dc:language>
  <cp:lastModifiedBy>ERIK</cp:lastModifiedBy>
  <dcterms:modified xsi:type="dcterms:W3CDTF">2009-08-07T09:20:38Z</dcterms:modified>
  <cp:revision>1</cp:revision>
  <dc:subject/>
  <dc:title>Geen diatitel</dc:title>
</cp:coreProperties>
</file>