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38E-0FD2-42FF-8A07-61EA87FC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C27-B8A5-4BC6-92D2-F222FB5E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AE5-C0DC-4656-BD5C-9DAE9652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E76-7179-4023-AE5F-510A283C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1B4-77C1-44AD-9660-4DF112C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570-CAC4-4E35-BF17-D60DE29C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E9C-FEA0-418F-B8E3-BF91AA83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2F4-15DD-473E-AA1D-79C3BDB4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81A-903B-40BB-AEEB-0A5ECA7E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93A-EF77-4943-8373-54A81EF7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564-6AA4-4EA6-AEBA-D4F8EBC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A19-06A8-477F-ABDC-E01A774E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BEEA-6CC5-4634-BC56-EDEFCA703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07:28Z</dcterms:created>
  <dc:creator>ERIK</dc:creator>
  <dc:description/>
  <dc:language>en-US</dc:language>
  <cp:lastModifiedBy>ERIK</cp:lastModifiedBy>
  <dcterms:modified xsi:type="dcterms:W3CDTF">2009-08-07T09:16:26Z</dcterms:modified>
  <cp:revision>1</cp:revision>
  <dc:subject/>
  <dc:title>Geen diatitel</dc:title>
</cp:coreProperties>
</file>