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9E1-D3BD-4660-A817-A8327E59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D7A-F6C7-425A-82E5-211A403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C80-0B40-41C6-B2A8-C079283B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4AC-DB80-421F-BC6F-9EF34556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096-5A31-4ED5-90F0-73B76F23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F24-D17C-4469-B1D0-43F1287F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E2D-048B-4DED-9E6D-39C6C57A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597-A37D-4625-9C4B-F0F63041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591-A3CD-4C4C-BB17-D6084AF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486-AFDB-45A4-BCE4-6C30D9D7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2C1-6378-4E51-9190-968415D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331-3B47-4241-9112-A4203C76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DC9B-ABEC-4FB7-9889-C1F0247A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07:28Z</dcterms:created>
  <dc:creator>ERIK</dc:creator>
  <dc:description/>
  <dc:language>en-US</dc:language>
  <cp:lastModifiedBy>ERIK</cp:lastModifiedBy>
  <dcterms:modified xsi:type="dcterms:W3CDTF">2009-08-07T09:16:26Z</dcterms:modified>
  <cp:revision>1</cp:revision>
  <dc:subject/>
  <dc:title>Geen diatitel</dc:title>
</cp:coreProperties>
</file>