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A1EA-D3C6-4D48-A326-0144C6F3C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96F9-FFF4-4CE7-AAE2-48173399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22A9-D442-4918-B7F4-D5F5CC2DE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9D1F-9555-445D-B9F3-2B38F4404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F7DC-A167-43B6-BF46-F4775FEA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B405-F2C0-4A37-9D95-D62A55B5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FECB-07B3-4FA3-AA8C-8F5E8A74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94FE-46C3-4A1B-9C40-F00E1A35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5218-90E1-4CB3-8414-92F464FA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B0B1-B73B-42B3-B233-C8928A1E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8CC0-D8ED-4254-A754-E2EACA98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9EF5-DB76-48AA-8455-3E8158DC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8CE9-9682-46CF-9885-4E7F533E1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9768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8:57:33Z</dcterms:created>
  <dc:creator>ERIK</dc:creator>
  <dc:description/>
  <dc:language>en-US</dc:language>
  <cp:lastModifiedBy>ERIK</cp:lastModifiedBy>
  <dcterms:modified xsi:type="dcterms:W3CDTF">2009-08-07T09:07:20Z</dcterms:modified>
  <cp:revision>1</cp:revision>
  <dc:subject/>
  <dc:title>Geen diatitel</dc:title>
</cp:coreProperties>
</file>