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8DD-7EFF-47CE-B48A-97BC344B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C6C-DA9E-46E2-B37F-21F26069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455-9A9E-4786-8ECA-CFABAAB7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CB4-3452-42A5-A673-F8A08687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844-3895-41AE-9C0F-D94052CF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8CB-67FB-455B-A2FB-7D867DBD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5CE-5DEE-4D4D-816B-4453D0EE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0ED-43CF-4635-9C62-122E0F3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731-9C61-4B67-9FC9-0669723D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68C-A353-4A71-89F5-92BCB3B1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EAE-321C-48CE-94CA-E34E9830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E02-75FD-42A6-AA9E-0D60634C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D57-249C-4829-BA11-F41ADFA30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976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8:57:33Z</dcterms:created>
  <dc:creator>ERIK</dc:creator>
  <dc:description/>
  <dc:language>en-US</dc:language>
  <cp:lastModifiedBy>ERIK</cp:lastModifiedBy>
  <dcterms:modified xsi:type="dcterms:W3CDTF">2009-08-07T09:07:20Z</dcterms:modified>
  <cp:revision>1</cp:revision>
  <dc:subject/>
  <dc:title>Geen diatitel</dc:title>
</cp:coreProperties>
</file>