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920-7723-4B37-B17F-E1A55247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8D8-2D8A-4099-8AAA-69DF1EA8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364-C315-48E9-A60F-57B1ED6C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A85-A491-4C88-BFD9-6F14D4B9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C4C-0CBE-422E-8594-AA5A49C5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B97-BE22-4C1F-9E3B-723E118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7B8-3B94-4C4F-95D5-FA58701B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879-CAD2-4E6B-86C5-2BB82F55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BA0-C070-44D2-8CFC-46225819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8D3-1DD2-44CD-BD42-9F585C7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0A5-11EB-4D3C-8B1D-129BB5B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5AF-33A5-473A-9033-EAFCAF7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3FA2-A936-4588-9BD9-380CBF748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51:57Z</dcterms:created>
  <dc:creator>ERIK</dc:creator>
  <dc:description/>
  <dc:language>en-US</dc:language>
  <cp:lastModifiedBy>ERIK</cp:lastModifiedBy>
  <dcterms:modified xsi:type="dcterms:W3CDTF">2009-08-07T08:57:07Z</dcterms:modified>
  <cp:revision>1</cp:revision>
  <dc:subject/>
  <dc:title>Geen diatitel</dc:title>
</cp:coreProperties>
</file>