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3A93-6FC5-48CF-8A61-11528C13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163-0681-45B8-84D9-B7C077A0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2D6C-8E44-4884-8AA1-75CFD4EC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70CA-3269-41F9-8241-7681217D5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D12D-E8E0-4869-91EC-8550494E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21AC-B0E3-491B-885D-C9663F4C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2AAA-E224-4932-ACF5-4B756072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3F3A-2730-43CA-B874-47DDFB02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CBC0-AE68-4F96-B474-503F16CA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7DD5-91FF-49BE-9E29-631D6FF0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5536-3E51-48C8-B46F-020836FF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1E54-AC08-470A-99A4-8CB48439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48AD-CA8A-484A-8346-A3A8B44D1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39680" y="0"/>
            <a:ext cx="71373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8:51:57Z</dcterms:created>
  <dc:creator>ERIK</dc:creator>
  <dc:description/>
  <dc:language>en-US</dc:language>
  <cp:lastModifiedBy>ERIK</cp:lastModifiedBy>
  <dcterms:modified xsi:type="dcterms:W3CDTF">2009-08-07T08:57:07Z</dcterms:modified>
  <cp:revision>1</cp:revision>
  <dc:subject/>
  <dc:title>Geen diatitel</dc:title>
</cp:coreProperties>
</file>