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4D4-AE18-49AF-9F10-348874B9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912-149E-442D-B9A3-3F06762B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EFF-F7F5-4EC5-B363-BA7931A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640-F592-4F77-A132-23189828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3AA-2A67-4951-8607-8886C1F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98C-9E4D-4B7C-A14E-B539AB3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F10-42C4-4634-893D-1FEEF15D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E84-B911-41CB-985A-567FF6D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533-7A95-4F3C-A15E-3497125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EF6-1288-4344-B751-0829634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690-F830-46F8-8AE6-1B3E0000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45A-18E6-46E9-A191-CACDBE8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2E8-E652-4E7C-BF31-49CDA753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49:49Z</dcterms:created>
  <dc:creator>ERIK</dc:creator>
  <dc:description/>
  <dc:language>en-US</dc:language>
  <cp:lastModifiedBy>ERIK</cp:lastModifiedBy>
  <dcterms:modified xsi:type="dcterms:W3CDTF">2009-08-07T08:51:45Z</dcterms:modified>
  <cp:revision>1</cp:revision>
  <dc:subject/>
  <dc:title>Geen diatitel</dc:title>
</cp:coreProperties>
</file>