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197-6D09-4C3E-B853-D3583F88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1A1-57E2-45E1-93EC-03C25DCA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D68-91CF-4174-BDC3-9A3E49CE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614-41F7-492F-A6AF-E62B15BA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F24-F1E6-4F85-B36F-B8816CB1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190-CD46-4750-BA36-E80AC341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DAF-717D-439F-8B35-D6A47A8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D82-CD4F-4F62-84FC-7D5D09AF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D5D-0AF3-47EC-9A0A-1347DD0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D00-4D03-44E4-AF7F-75E586D2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BC1-6F27-4660-B0B7-53586ABC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310-9B7A-4080-A271-B05AE33C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6A2F-36C6-4D58-ACAC-934D5FAA4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8:49:49Z</dcterms:created>
  <dc:creator>ERIK</dc:creator>
  <dc:description/>
  <dc:language>en-US</dc:language>
  <cp:lastModifiedBy>ERIK</cp:lastModifiedBy>
  <dcterms:modified xsi:type="dcterms:W3CDTF">2009-08-07T08:51:45Z</dcterms:modified>
  <cp:revision>1</cp:revision>
  <dc:subject/>
  <dc:title>Geen diatitel</dc:title>
</cp:coreProperties>
</file>