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427-D802-4062-B8BA-F816D43E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DC5-B36D-4AF6-A4A5-DB05EFF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B7E-7ABE-4960-A9E3-87D07BCD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102-D029-4309-9234-A3D12990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827-F670-4649-8D95-64AD6E4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786-FD8C-44B4-8277-7EF41DC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424-6A62-43D5-AEAE-8BB53CD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3E1-F19C-427E-810D-3F37BC84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242-9E9F-45C4-827A-F302ABE4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C29-9F08-4580-BAFD-778F84B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E6A-0033-4D40-8813-8642BF7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988-79C6-46FF-BB81-95BF69F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CC8-C465-48AB-882E-EABAB4D9D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022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36:34Z</dcterms:created>
  <dc:creator>ERIK</dc:creator>
  <dc:description/>
  <dc:language>en-US</dc:language>
  <cp:lastModifiedBy>ERIK</cp:lastModifiedBy>
  <dcterms:modified xsi:type="dcterms:W3CDTF">2009-08-07T08:43:57Z</dcterms:modified>
  <cp:revision>1</cp:revision>
  <dc:subject/>
  <dc:title>Geen diatitel</dc:title>
</cp:coreProperties>
</file>