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AD1-647A-461A-BE08-D15B94FB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C15-A18A-4E32-8F6F-2696BE6C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89D-9F79-43B2-9FB0-1C6E366D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FAA-DB6F-4255-9CB0-E40D5F1B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69E-8E58-4AEE-B791-2B8BC58A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BED-9088-42F7-A9B1-9CEBC0CA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646-58A6-4079-AE74-71A1E68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071-A6CC-4F5F-BB82-A1F9A84E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9D0-D002-40DC-86F3-ED0BD87A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FAF-7C27-47C3-879D-47C3004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DEE-90E5-458D-86F0-49FF3B3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8C9-D619-4EA3-89E3-BC34A61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875E-2DDC-4A91-B737-F08CC1CB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022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36:34Z</dcterms:created>
  <dc:creator>ERIK</dc:creator>
  <dc:description/>
  <dc:language>en-US</dc:language>
  <cp:lastModifiedBy>ERIK</cp:lastModifiedBy>
  <dcterms:modified xsi:type="dcterms:W3CDTF">2009-08-07T08:43:57Z</dcterms:modified>
  <cp:revision>1</cp:revision>
  <dc:subject/>
  <dc:title>Geen diatitel</dc:title>
</cp:coreProperties>
</file>