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1E9-D260-4B24-9188-589D0359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538-2C08-4B77-8E70-04ECFD65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DD7-61A8-4D3A-9765-DC5D35B1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807-67A2-4A50-A13F-A7D9E0CA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DD8-51C7-4117-A6B3-C9CCDB59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259-A68E-4C7B-9DF0-B13436D9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248-1707-4430-9951-4400A1CE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CCA-C3DF-470F-8AF6-81C4EA5B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A81-A321-4EFE-9472-C7CA4DC0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511-803F-4005-8AD8-2AAB45BF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9A2-999D-4001-8025-B2803CD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DE6-A875-4DA3-89FE-43DED321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314B-C37E-4FC7-9306-32895DDCE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4760" y="0"/>
            <a:ext cx="70675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5:01:37Z</dcterms:created>
  <dc:creator>ERIK</dc:creator>
  <dc:description/>
  <dc:language>en-US</dc:language>
  <cp:lastModifiedBy>ERIK</cp:lastModifiedBy>
  <dcterms:modified xsi:type="dcterms:W3CDTF">2009-05-21T15:28:23Z</dcterms:modified>
  <cp:revision>1</cp:revision>
  <dc:subject/>
  <dc:title>Geen diatitel</dc:title>
</cp:coreProperties>
</file>