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9A2-BF5A-490A-B24D-CE6998A8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EB4-7C08-4433-A4B5-084B9356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A5A-06D4-420C-8CDE-432A3FD5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D52-949F-4226-BF93-E4720B06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C6C-1FF8-4BBD-97D4-9ACB0EE6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0C6-BEAE-4E91-9E5B-0B07CE93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2E0-CB56-46EB-8EB1-19EC8CE6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4CE-47BA-4556-8F11-638C5B13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7A6-C0BE-4A73-99A6-5276EABA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E7D-18DE-4A9C-9014-57A23CC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97B-6210-45E5-BC03-3808174C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9FA-D9A8-4F47-ADF5-BAC90BE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B96A-ED0D-4DC7-9DE5-00E3C37AF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4760" y="0"/>
            <a:ext cx="70675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5:01:37Z</dcterms:created>
  <dc:creator>ERIK</dc:creator>
  <dc:description/>
  <dc:language>en-US</dc:language>
  <cp:lastModifiedBy>ERIK</cp:lastModifiedBy>
  <dcterms:modified xsi:type="dcterms:W3CDTF">2009-05-21T15:28:23Z</dcterms:modified>
  <cp:revision>1</cp:revision>
  <dc:subject/>
  <dc:title>Geen diatitel</dc:title>
</cp:coreProperties>
</file>