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E96-EC77-49DB-B1C4-DCF6D58C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BDD-57B1-46C3-81B1-9F53F6E8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B8B-BAA8-48E9-91FE-E2EB11BD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E66-A31A-4520-B844-3B005223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494-785D-4F20-880E-D6A44DDC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D21-F4D8-440C-B242-E3A5437E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C6D-61B1-4526-A4FA-7C9D8F2B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2C8-8EA3-42CA-8988-EF15C91A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51D-57FD-48E4-938D-033E4BF7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035-310B-4050-9553-6892D4F3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29A-CF4A-4E0D-8089-5C6C5BC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8EC-8D9D-49E3-91C9-6C2086FE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3296-F6DB-4FF9-ADEC-7206CAD5B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4760" y="0"/>
            <a:ext cx="70675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5:28Z</dcterms:created>
  <dc:creator>ERIK</dc:creator>
  <dc:description/>
  <dc:language>en-US</dc:language>
  <cp:lastModifiedBy>ERIK</cp:lastModifiedBy>
  <dcterms:modified xsi:type="dcterms:W3CDTF">2009-05-21T15:01:19Z</dcterms:modified>
  <cp:revision>1</cp:revision>
  <dc:subject/>
  <dc:title>Geen diatitel</dc:title>
</cp:coreProperties>
</file>