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FD8-3EBC-4550-9757-484FF7E3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0F2-1E85-4C04-9724-69FA7BE5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110-8E58-475E-B9F8-F80F0F47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724-8F1C-4750-827D-3DC0A27D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27C-E399-4F0B-A1DB-2AF3D123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5F3-DA77-4ED9-AF92-C5869854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550-399A-474C-8710-1800B325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EC0-7D53-49C7-9ACD-D90334E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073-8EE1-4946-AF1B-072D00A7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8BF-D629-434E-99B3-FD120B4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AE5-E26F-421F-9123-4ABEEF7B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5C2-17C5-4F09-9454-98E5E80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6819-F50C-4306-A4F2-2427B7674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5:28Z</dcterms:created>
  <dc:creator>ERIK</dc:creator>
  <dc:description/>
  <dc:language>en-US</dc:language>
  <cp:lastModifiedBy>ERIK</cp:lastModifiedBy>
  <dcterms:modified xsi:type="dcterms:W3CDTF">2009-05-21T15:01:19Z</dcterms:modified>
  <cp:revision>1</cp:revision>
  <dc:subject/>
  <dc:title>Geen diatitel</dc:title>
</cp:coreProperties>
</file>