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40A-3627-43ED-9FE2-0BD31896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82D-A898-422A-90A3-EA9511E4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FAD-23BE-443F-8C15-3D95E376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4C2-BEB7-4D91-B472-19E5CDC5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D67-71C8-4BF0-BF62-C4A5440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5A5-1EAA-48C5-A153-DF2F6A03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FA3-F079-4DE4-AF44-90F0436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7FF-1F74-4751-878A-5C83B785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EE0-5DB7-48D6-BE05-5D28EC40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01D-AAFB-4377-962D-98ACE0B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AEB-10D4-4843-BD4D-E67B7B15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148-FE43-47A4-8518-763A6921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ABE3-850C-4A73-B8C7-BDB5E4BD4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4760" y="0"/>
            <a:ext cx="7067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0:33Z</dcterms:created>
  <dc:creator>ERIK</dc:creator>
  <dc:description/>
  <dc:language>en-US</dc:language>
  <cp:lastModifiedBy>ERIK</cp:lastModifiedBy>
  <dcterms:modified xsi:type="dcterms:W3CDTF">2009-05-21T14:55:13Z</dcterms:modified>
  <cp:revision>1</cp:revision>
  <dc:subject/>
  <dc:title>Geen diatitel</dc:title>
</cp:coreProperties>
</file>