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C1A-63CF-4478-86E1-31F1F625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BF3-F914-4A2D-8717-A63501D0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A23-B1BD-41BD-8B01-E118123B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59D-4B67-472D-A16F-F8126EA3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3C3-6031-4B1A-B7A4-221252A3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1F4-E3A4-430E-9DFC-28B45DA3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B8E-C903-44AA-9BBA-FAE76372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D68-42CD-4CF0-9AF8-A87DCE19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B16-82F4-4263-AD84-595E7C6C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9E1-25F7-4F17-B54C-761C1630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5DB-0238-4C5D-8018-60B79EB1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DDE-A32D-4235-B787-3F473400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7D00-AAF3-4750-AC83-9C6E4EFF1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4760" y="0"/>
            <a:ext cx="70675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0:33Z</dcterms:created>
  <dc:creator>ERIK</dc:creator>
  <dc:description/>
  <dc:language>en-US</dc:language>
  <cp:lastModifiedBy>ERIK</cp:lastModifiedBy>
  <dcterms:modified xsi:type="dcterms:W3CDTF">2009-05-21T14:55:13Z</dcterms:modified>
  <cp:revision>1</cp:revision>
  <dc:subject/>
  <dc:title>Geen diatitel</dc:title>
</cp:coreProperties>
</file>