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F909-AF97-4181-AB3F-FB5CBB354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EF26-0D3B-4CC2-82D4-017DA981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D4C9-925C-4F6F-B1E9-565353202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5C78-E994-4B6E-B1D9-7EA6F2DB7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3B4C-7280-4A9A-80A8-DC12CDCE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DE6F-80C3-41AF-9AC4-E5A50F87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0F02-894A-4C8B-A6D3-42B3DF74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2438-85EA-4ADE-ABA7-B375C87B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1919-0ACF-4526-9CCE-8767694B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627D-AE02-424D-BD70-D88BAB51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6AED-71E2-4F39-8D5B-1F8BCD8E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59F4-DBD5-4D65-9735-DE9D5162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EFFA-355D-497F-9C56-980AA91E4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04760" y="0"/>
            <a:ext cx="706752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4:40:33Z</dcterms:created>
  <dc:creator>ERIK</dc:creator>
  <dc:description/>
  <dc:language>en-US</dc:language>
  <cp:lastModifiedBy>ERIK</cp:lastModifiedBy>
  <dcterms:modified xsi:type="dcterms:W3CDTF">2009-05-21T14:48:37Z</dcterms:modified>
  <cp:revision>1</cp:revision>
  <dc:subject/>
  <dc:title>Geen diatitel</dc:title>
</cp:coreProperties>
</file>