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CC8-9CA5-4559-A8ED-D2F487ED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CA5-0CF5-4ADB-9603-1BB41386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D81-6F92-42C7-A434-244BE5D4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D90-A471-46E1-9C38-3BB1B402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D68-BB68-4FC1-8AFB-C6D305BD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A83-A86D-4151-A7B1-300BAA0B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FF8-533F-49D9-A240-30933058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67C-455C-4972-ACAE-6B027E8D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F3B-8EA0-481D-86F0-44A8B2A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5A3-7476-43EB-9639-C949A024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ABC-8CB9-48A6-9F1A-C1AAA0A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E99-C425-4D80-90F3-67FE1CEF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57F5-9F1E-41C3-9DA9-73C58B729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04760" y="0"/>
            <a:ext cx="70675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40:33Z</dcterms:created>
  <dc:creator>ERIK</dc:creator>
  <dc:description/>
  <dc:language>en-US</dc:language>
  <cp:lastModifiedBy>ERIK</cp:lastModifiedBy>
  <dcterms:modified xsi:type="dcterms:W3CDTF">2009-05-21T14:48:37Z</dcterms:modified>
  <cp:revision>1</cp:revision>
  <dc:subject/>
  <dc:title>Geen diatitel</dc:title>
</cp:coreProperties>
</file>