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CAD-FA2D-4975-B448-B1FDBECE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774-7950-4DBD-9351-69D7840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79-E62F-4852-A221-98238F6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870-656D-44F2-AD08-BE33EA02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824-1436-44FD-BFEE-4B34676C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4D7-474E-420E-B608-655CF1B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909-C14C-47F7-B456-D29D148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C1A-549B-410C-9D16-CE7C217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9A3-ED2F-43DB-B0A8-DDE8DDC8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A6F-589F-4013-96BB-275BA54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4B2-9464-4C44-8C1B-24E0FA8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317-0DE2-457F-B814-1C0A902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1F6-89BD-4F91-8C28-E983AB3A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59:58Z</dcterms:created>
  <dc:creator>ERIK</dc:creator>
  <dc:description/>
  <dc:language>en-US</dc:language>
  <cp:lastModifiedBy>ERIK</cp:lastModifiedBy>
  <dcterms:modified xsi:type="dcterms:W3CDTF">2009-03-24T19:03:29Z</dcterms:modified>
  <cp:revision>1</cp:revision>
  <dc:subject/>
  <dc:title>Geen diatitel</dc:title>
</cp:coreProperties>
</file>