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F8A-B5BB-4C8F-9385-011533D8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FDB-443F-40BE-BEB0-1B716570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044-AC79-4A5F-9C9B-1F353059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5A2-4831-4922-9843-BA193836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E9E-2FE2-42D7-9769-C5AC3970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3E9-1FF2-41E5-86AA-F954ACB9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B7C-0174-4328-B2B6-EF6F7D0A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347-F066-4895-AC60-090BBC9A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4FF-4F1F-4C90-BEDC-BB8D0B01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DE3-7DC1-488C-8354-30C68790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FEC-26C4-4410-AC2A-26974BAF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385-2BA5-4B7D-A7D0-D84EB6C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F6D8-9289-4BCF-AEA4-021B6A8DF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59:58Z</dcterms:created>
  <dc:creator>ERIK</dc:creator>
  <dc:description/>
  <dc:language>en-US</dc:language>
  <cp:lastModifiedBy>ERIK</cp:lastModifiedBy>
  <dcterms:modified xsi:type="dcterms:W3CDTF">2009-03-24T19:03:29Z</dcterms:modified>
  <cp:revision>1</cp:revision>
  <dc:subject/>
  <dc:title>Geen diatitel</dc:title>
</cp:coreProperties>
</file>