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B6F-6BBA-43D6-9640-781A6924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2EB-C9B4-489C-895E-B386FA8D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47B-1216-4619-8E58-03458EB1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677-8426-4970-9856-AA84FE74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FE3-A1C4-4E5A-B4C7-03C80C09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54C-EAA2-465C-8E47-0332AC3A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1F1-7E8B-46E5-9C6C-36F4B75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35C-BB29-41E3-A22B-D45B08D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2B9-1DB8-4086-BF35-2A28927C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804-1A02-468B-8A9C-FA44E7C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15A-98F2-446D-98D3-A0036D7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A57-000B-4350-8021-033A5A2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312D-B5B6-4551-B786-3017512EB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55:25Z</dcterms:created>
  <dc:creator>ERIK</dc:creator>
  <dc:description/>
  <dc:language>en-US</dc:language>
  <cp:lastModifiedBy>ERIK</cp:lastModifiedBy>
  <dcterms:modified xsi:type="dcterms:W3CDTF">2009-03-24T18:59:09Z</dcterms:modified>
  <cp:revision>1</cp:revision>
  <dc:subject/>
  <dc:title>Geen diatitel</dc:title>
</cp:coreProperties>
</file>