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899F-F220-4A52-863D-CCEB04FAB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5D3B-6625-42CB-88D8-E0DC41D1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59B4-8843-49E9-94C6-06B65B2EE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9E07-D83B-4A5F-890D-F0DA89FF9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BD81-091E-4725-A4AB-0CDC54FF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DB22-44F7-42EA-8E2D-6D7D5885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8484-24F3-4E7E-A560-1764C64B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61F3-63E2-4291-BA3D-6D8BF2FE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B4A1-2CC0-49D5-AA26-3F32EAF6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0ACE-4BBA-43A1-9D69-D887F5DE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1542-7CA0-4F6B-89E5-F9AA95FA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7DA4-826E-4271-A577-A4AFBF4E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C168-CA2F-4786-9E64-29A2F267E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8:55:25Z</dcterms:created>
  <dc:creator>ERIK</dc:creator>
  <dc:description/>
  <dc:language>en-US</dc:language>
  <cp:lastModifiedBy>ERIK</cp:lastModifiedBy>
  <dcterms:modified xsi:type="dcterms:W3CDTF">2009-03-24T18:59:09Z</dcterms:modified>
  <cp:revision>1</cp:revision>
  <dc:subject/>
  <dc:title>Geen diatitel</dc:title>
</cp:coreProperties>
</file>