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78F-1BD1-42A0-AB67-0E5FDD04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379-A6B0-4247-A3B4-852A55C3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71B-AB2A-4021-9DF7-7FA63C21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C93-AF60-4484-8B43-C5C367C1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BD6-2061-4703-B953-F50320DB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BD3-2967-4E46-B459-6E64EEFD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315-F002-4B87-8591-CDFE4D40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8CC-7481-4BF8-80BA-290FD7F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B8E-7770-4E83-9CA1-9B2FCA56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2E7-DA8D-43D2-B732-56392E4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4FE-EF0C-4C1C-A782-6223614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29B-F07E-4907-AEA9-DF2E3C3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B0AE-AF69-454A-8FFA-7383DD2DE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49:30Z</dcterms:created>
  <dc:creator>ERIK</dc:creator>
  <dc:description/>
  <dc:language>en-US</dc:language>
  <cp:lastModifiedBy>ERIK</cp:lastModifiedBy>
  <dcterms:modified xsi:type="dcterms:W3CDTF">2009-03-24T18:54:05Z</dcterms:modified>
  <cp:revision>1</cp:revision>
  <dc:subject/>
  <dc:title>Geen diatitel</dc:title>
</cp:coreProperties>
</file>