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6B69-68E9-463F-A8F2-9CE7D7415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EB6A-F92B-4FD3-B1DE-FAF08285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C1E0-DB2F-4C8E-B457-EE1EE7334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55AC-92B0-4EE7-97F4-F8A876EF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78FC-3B8C-4686-AB80-9B8A1278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2EA2-72C2-4E8A-84A3-3F7BFA95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7A4E-C09F-4985-B113-EECE4F1B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66F3-7558-4508-A68B-A0A2D028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3070-28ED-43ED-9CF2-A21C3E16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5BB1-63B3-43EA-AC1E-46791C41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38A5-BB94-4B3E-8B76-33FBF20B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72C5-F847-4A56-9D09-CAC0A24A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9FDF-3A76-4C7B-B9A8-C41679786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8:49:30Z</dcterms:created>
  <dc:creator>ERIK</dc:creator>
  <dc:description/>
  <dc:language>en-US</dc:language>
  <cp:lastModifiedBy>ERIK</cp:lastModifiedBy>
  <dcterms:modified xsi:type="dcterms:W3CDTF">2009-03-24T18:54:05Z</dcterms:modified>
  <cp:revision>1</cp:revision>
  <dc:subject/>
  <dc:title>Geen diatitel</dc:title>
</cp:coreProperties>
</file>