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899-6ABC-49C3-B390-DF9023F4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8D1-B20B-438C-9DAB-BF8F17E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5D5-8EF2-4B63-ACE2-A99F04D3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A8F-B643-43A0-A865-97B0F5B8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0DA-4208-4F01-B4D6-FD46BB5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2C5-27DC-4CC7-B485-16E0CD8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4B3-FCF9-460D-B724-D42FFCD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361-384F-4BE1-B2BC-49141BB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298-B932-4A61-9076-1D11C4E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A4A-28D8-4152-AC4B-4DA93DE3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4D6-9656-48DA-AF8E-BB9F1667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F71-6C24-4643-8E45-42B6ED3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298B-62D3-42E7-9EAB-0B5D630DE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38:50Z</dcterms:created>
  <dc:creator>ERIK</dc:creator>
  <dc:description/>
  <dc:language>en-US</dc:language>
  <cp:lastModifiedBy>ERIK</cp:lastModifiedBy>
  <dcterms:modified xsi:type="dcterms:W3CDTF">2009-03-24T18:48:07Z</dcterms:modified>
  <cp:revision>1</cp:revision>
  <dc:subject/>
  <dc:title>Geen diatitel</dc:title>
</cp:coreProperties>
</file>