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B39C-C6ED-4506-8534-BE1C7CC1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C577-870D-45E4-8D9F-54C24E61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35D9-DAF5-4B09-AFD2-97F78BD8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FE64-1170-4867-BF1B-48B2969D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70EA-4AF3-4043-AE59-8F5499CF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8E1E-D4CB-4E1D-86D9-C0E7558B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25BC-D021-4541-A41F-773604D1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550C-0A2A-4FEE-9F9D-1D2414BB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FA3E-7625-472C-A8C7-E8BC77C9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1D19-6596-4D6D-9648-EE5C61FE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89ED-D732-4351-BD97-E835DF23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9119-99F4-40EF-843C-7FD262BE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90B7-79AA-4D06-91BF-33D0DF4DC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8:38:50Z</dcterms:created>
  <dc:creator>ERIK</dc:creator>
  <dc:description/>
  <dc:language>en-US</dc:language>
  <cp:lastModifiedBy>ERIK</cp:lastModifiedBy>
  <dcterms:modified xsi:type="dcterms:W3CDTF">2009-03-24T18:48:07Z</dcterms:modified>
  <cp:revision>1</cp:revision>
  <dc:subject/>
  <dc:title>Geen diatitel</dc:title>
</cp:coreProperties>
</file>