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38CD-3B2D-4CAE-B4FE-B64209F3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56A5-B41B-4C15-BD21-4A873568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F211-BEF0-4145-8104-1408A727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4901-3B01-4C40-A4E1-219DC912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4390-30F3-4ACC-84E6-3FC12345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3DAB-BC4C-4EE8-858B-7BB08302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2386-1F97-4C1F-BF21-C616825C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5FD4-D65D-4438-8B23-3E2D6084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3698-79E3-4816-B509-3D8AA2EB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10EF-BA53-4DA2-94BF-A56A2221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E9B4-00FF-4B4C-9C2E-C5A8DF44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AD0B-8773-4793-8415-3F34166C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24D6-855B-46A9-9B37-20E6CC997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8:31:55Z</dcterms:created>
  <dc:creator>ERIK</dc:creator>
  <dc:description/>
  <dc:language>en-US</dc:language>
  <cp:lastModifiedBy>ERIK</cp:lastModifiedBy>
  <dcterms:modified xsi:type="dcterms:W3CDTF">2009-03-24T18:36:28Z</dcterms:modified>
  <cp:revision>1</cp:revision>
  <dc:subject/>
  <dc:title>Geen diatitel</dc:title>
</cp:coreProperties>
</file>