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8F8-9A4C-4500-B1D8-8968D052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C9-4007-487D-99BC-8406DEE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163-5792-41FF-9B8D-1505A6F3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E65-838A-4AB3-A899-4485EE24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B44-9FC4-435A-A052-23B55EB1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705-FA62-41E0-8153-9FC8CD4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C3A-7198-42B7-88C0-A34DF48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02A-4766-4BB6-9C22-426886D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79A-3E0C-4079-9D21-6065F8E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70A-DBFF-449C-A128-9B7C18B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DC2-EC75-4F72-8CBD-C3BDD751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417-D0C3-467A-8A52-4B9464C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1AF-222D-4A8E-B330-17EEB56A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31:55Z</dcterms:created>
  <dc:creator>ERIK</dc:creator>
  <dc:description/>
  <dc:language>en-US</dc:language>
  <cp:lastModifiedBy>ERIK</cp:lastModifiedBy>
  <dcterms:modified xsi:type="dcterms:W3CDTF">2009-03-24T18:36:28Z</dcterms:modified>
  <cp:revision>1</cp:revision>
  <dc:subject/>
  <dc:title>Geen diatitel</dc:title>
</cp:coreProperties>
</file>