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57D7-8E93-4D52-9D80-DB640036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501F-8BA5-4719-9C5B-794C5BB4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B8A-4A8C-4274-97BD-5C4813F3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AEE6-9BAC-4F2A-B73B-2160AE17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ECBC-40B0-48B0-935E-72829EA2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5887-2B86-423E-A3C1-EAD5B864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4FD8-30DE-4753-8766-3A335302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799B-B72E-4FBC-963E-42060C87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7100-7A9E-4DFA-9AC9-4E24A692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674F-9797-42C8-B7C5-3F46E4A0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D98-CA61-493E-ACD3-8E61C668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A0CF-526D-4CB6-A17D-8B494864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BD65-4148-4AFC-AF9E-362B3ACB0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8:23:51Z</dcterms:created>
  <dc:creator>ERIK</dc:creator>
  <dc:description/>
  <dc:language>en-US</dc:language>
  <cp:lastModifiedBy>ERIK</cp:lastModifiedBy>
  <dcterms:modified xsi:type="dcterms:W3CDTF">2009-03-24T18:29:01Z</dcterms:modified>
  <cp:revision>1</cp:revision>
  <dc:subject/>
  <dc:title>Geen diatitel</dc:title>
</cp:coreProperties>
</file>