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69B-514A-42E5-A0E0-D9B798D0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9FF-6DEB-4E20-A88D-0D10B40F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26C-0A65-4504-8E53-CA377590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2CD-7029-4176-804D-446E73B9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E69-E113-4654-A3AE-FF0BD2F9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403-9B40-447A-B333-9BA99FD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1F0-F8B2-48A8-9AA5-B70FB188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21B-FD49-4AAA-9D76-E569CAF0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6DF-1D1A-421F-BD19-60132A84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BDF-E79D-4B90-BEC5-828FDF89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85B-70C8-4F61-BB69-E0C48E9D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71C-07DA-4932-B22C-90B032E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6CD4-E56C-4DDD-A826-5700B1B6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23:51Z</dcterms:created>
  <dc:creator>ERIK</dc:creator>
  <dc:description/>
  <dc:language>en-US</dc:language>
  <cp:lastModifiedBy>ERIK</cp:lastModifiedBy>
  <dcterms:modified xsi:type="dcterms:W3CDTF">2009-03-24T18:29:01Z</dcterms:modified>
  <cp:revision>1</cp:revision>
  <dc:subject/>
  <dc:title>Geen diatitel</dc:title>
</cp:coreProperties>
</file>