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39E-0BA4-4A4D-AB9B-129036BE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A7C-4C1F-49DF-AF3A-974F49C9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807-108D-416A-A5E0-DE73E1D9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183-335B-4FFE-9495-DEB080C8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889-612A-4EBB-8904-9B313EAE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FCA-53B9-4D1E-87D9-3A7756C9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3FD-8530-4704-AAB3-B4C2C599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643-85AE-492B-AA0E-1D1514D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B77-FF21-4968-A84F-F63931AB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C56-6533-466C-BE2D-1532BD52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5F4-7B02-4900-8AB6-6C1C810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208-B77C-4DB0-B787-15D6715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D619-B163-4B9F-BF4C-9105D6DEE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18:16Z</dcterms:created>
  <dc:creator>ERIK</dc:creator>
  <dc:description/>
  <dc:language>en-US</dc:language>
  <cp:lastModifiedBy>ERIK</cp:lastModifiedBy>
  <dcterms:modified xsi:type="dcterms:W3CDTF">2009-03-24T18:22:20Z</dcterms:modified>
  <cp:revision>1</cp:revision>
  <dc:subject/>
  <dc:title>Geen diatitel</dc:title>
</cp:coreProperties>
</file>