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B76-6E55-4A75-8229-1DF2B3CC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306-4623-4D69-9EB8-4ECF5647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E8C-738F-4E66-8F48-184FB198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596-3F85-4BB5-9401-49CDE056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480-C5DB-4541-AA44-2A3E747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89F-D71A-4942-97BD-0A00F941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1BA-D442-409F-B070-0D61C49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7BD-C2E3-4900-8B63-628C0F75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BFC-5CA8-4823-A412-713201F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588-3C50-4EBF-BBE1-9882A7F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F56-0F36-48A9-AB6F-3D336BC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505-25DA-4869-A5C3-61FA185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D11-CF83-499C-B9B1-AE0328DDA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18:16Z</dcterms:created>
  <dc:creator>ERIK</dc:creator>
  <dc:description/>
  <dc:language>en-US</dc:language>
  <cp:lastModifiedBy>ERIK</cp:lastModifiedBy>
  <dcterms:modified xsi:type="dcterms:W3CDTF">2009-03-24T18:22:20Z</dcterms:modified>
  <cp:revision>1</cp:revision>
  <dc:subject/>
  <dc:title>Geen diatitel</dc:title>
</cp:coreProperties>
</file>