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181-F53E-4F27-B74C-9C321D18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A79-05C5-4B53-8379-B410EF6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9B3-5C9A-4346-A319-F9ACC205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B4A-57F6-4E5C-AB4C-069AFF80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904-E130-4062-ACE2-886DF58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12A-2BD8-4644-A95D-93752C6B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FF9-2F1D-4D17-A8D5-6D59C20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748-3E74-428A-B928-34842A4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B99-F35C-45B2-8231-AA62C50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3E6-3822-44A4-9132-8E4E7E86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632-3B43-4FFD-9418-625511A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EFE-69EB-42C2-945A-C2F7E9BD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45CD-45B4-47B4-B245-3E67E5E8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11:35Z</dcterms:created>
  <dc:creator>ERIK</dc:creator>
  <dc:description/>
  <dc:language>en-US</dc:language>
  <cp:lastModifiedBy>ERIK</cp:lastModifiedBy>
  <dcterms:modified xsi:type="dcterms:W3CDTF">2009-03-24T18:16:17Z</dcterms:modified>
  <cp:revision>1</cp:revision>
  <dc:subject/>
  <dc:title>Geen diatitel</dc:title>
</cp:coreProperties>
</file>