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E55-FA4E-4682-A3DF-FAACC6D4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217-AFF5-4488-BB3C-7406A27E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5D7-9C8D-4C5A-9104-468C59DA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427-2B70-4FEC-8E4D-BAFCD3A2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38A-1BD9-40B8-8406-D9DEA8C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894-38CF-4D5D-B00F-0CAC1B0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349-9618-4BA7-B710-D1AB599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257-27F4-4F8E-9A6D-BF5E4A7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3CF-FFB1-49D6-95D3-368AE33E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244-BE7C-4E44-8825-E7AF246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612-D33C-4894-ABE8-5F9ED91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3F0-C4AD-465F-BC46-2F5DC2A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142-D2D8-427D-8726-6B8C83299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11:35Z</dcterms:created>
  <dc:creator>ERIK</dc:creator>
  <dc:description/>
  <dc:language>en-US</dc:language>
  <cp:lastModifiedBy>ERIK</cp:lastModifiedBy>
  <dcterms:modified xsi:type="dcterms:W3CDTF">2009-03-24T18:16:17Z</dcterms:modified>
  <cp:revision>1</cp:revision>
  <dc:subject/>
  <dc:title>Geen diatitel</dc:title>
</cp:coreProperties>
</file>