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1CF-BBD4-4585-BBDF-BCF4634E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154-31FB-450D-A0A9-CC476CC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743-B268-45C0-B2CF-0AE73055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A63-6069-430E-AA09-095B0D3A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53C-A434-4674-A53C-929F570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5B5-6E18-4095-99B2-5B17E809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E05-EA02-48A1-A45C-00039A1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D15-05E5-4D51-8509-C5DFE78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A8A-8E10-49EB-8338-7F51085B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85E-8DBA-4B99-8722-88E6E1B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C75-AF60-49B7-AB31-6914C34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D1E-D9C7-4012-B180-D0DC532A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66D-2288-42AD-BC7D-C0BC0630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48:02Z</dcterms:created>
  <dc:creator>ERIK</dc:creator>
  <dc:description/>
  <dc:language>en-US</dc:language>
  <cp:lastModifiedBy>ERIK</cp:lastModifiedBy>
  <dcterms:modified xsi:type="dcterms:W3CDTF">2009-02-05T15:56:13Z</dcterms:modified>
  <cp:revision>1</cp:revision>
  <dc:subject/>
  <dc:title>Geen diatitel</dc:title>
</cp:coreProperties>
</file>