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420-3914-45B5-B7DB-9398A091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16E-7EE7-4CFB-AE3D-B02B02DC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D52-7EE2-4322-AA9A-E5F1FC4F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8CA-008B-4DFD-A2DD-8EE237D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026-D89A-4327-89C1-E7D0F12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974-E2B1-4260-BB0E-6048710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E2D-DCDF-4F28-8C1A-9EC5774C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6F1-1D3C-4C1C-99DC-D69CABCF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1EC-5CB7-4E50-9075-BFE892B7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AD9-E48F-4989-82A2-745E748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C16-623B-41D7-818C-6F00070D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FCE-477F-40C4-8F31-0189687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277-1891-4388-813E-F97DA766E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48:02Z</dcterms:created>
  <dc:creator>ERIK</dc:creator>
  <dc:description/>
  <dc:language>en-US</dc:language>
  <cp:lastModifiedBy>ERIK</cp:lastModifiedBy>
  <dcterms:modified xsi:type="dcterms:W3CDTF">2009-02-05T15:56:13Z</dcterms:modified>
  <cp:revision>1</cp:revision>
  <dc:subject/>
  <dc:title>Geen diatitel</dc:title>
</cp:coreProperties>
</file>