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43F-1DC3-4655-B96C-BFD0C13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804-094B-4FCF-B341-B712341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A2C-4FE2-4DBB-B143-8A3E5CB2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910-88FC-4383-B7BB-5370C882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D7B-9964-47E4-AD59-8D0C7C8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08F-9B9A-4506-B86B-4178C69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E83-E433-49B0-AE09-75A6D9B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F14-4EB2-4CEB-9584-A55050D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18B-FE9D-4B9F-B594-97EBA28C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55A-1866-45F7-85B8-F80639E6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33C-1F3C-4E62-A740-0B27858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80C-7DA5-4117-ADCE-3BB7C83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9312-7C17-4A5F-A3F1-BA26BF50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6440" y="0"/>
            <a:ext cx="70786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40:35Z</dcterms:created>
  <dc:creator>ERIK</dc:creator>
  <dc:description/>
  <dc:language>en-US</dc:language>
  <cp:lastModifiedBy>ERIK</cp:lastModifiedBy>
  <dcterms:modified xsi:type="dcterms:W3CDTF">2009-02-05T15:47:05Z</dcterms:modified>
  <cp:revision>1</cp:revision>
  <dc:subject/>
  <dc:title>Geen diatitel</dc:title>
</cp:coreProperties>
</file>