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B26-B97A-4C3A-9A16-5D74B260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32F-F2DD-4CC8-8574-E3AB4EF9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C4F-16F3-4D6D-AC7D-9939ED49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AB5-7704-4F9E-80B1-49A616F2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C2E-B85E-428B-872C-1C94E19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8D2-A92D-48B1-BF63-A21B6BAC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6E9-A01D-403E-8BF4-0F5ECDA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60C-7A60-4545-8EE1-517072B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8F0-55B9-4ABE-A71B-9A499AC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3C5-10B6-4FF4-8056-C448B9B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CD-5645-4E71-850B-E307396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8DF-5FE5-4D1C-8ACF-F388C18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107A-F368-4C98-B18D-F60FE5AC5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6440" y="0"/>
            <a:ext cx="70786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40:35Z</dcterms:created>
  <dc:creator>ERIK</dc:creator>
  <dc:description/>
  <dc:language>en-US</dc:language>
  <cp:lastModifiedBy>ERIK</cp:lastModifiedBy>
  <dcterms:modified xsi:type="dcterms:W3CDTF">2009-02-05T15:47:05Z</dcterms:modified>
  <cp:revision>1</cp:revision>
  <dc:subject/>
  <dc:title>Geen diatitel</dc:title>
</cp:coreProperties>
</file>